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5F035D-617C-481A-8E95-65C21969276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62941A-9C71-4FC5-A884-14C72A519B9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C66D7C-E911-4582-9FFE-0D2CCD91D39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2E75B6-1952-41A6-84B8-34D8BF50A9E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4F74F8-005F-46A3-B46A-868BC5D3930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70D892-5FDD-48E0-B0E7-7D8AADEDBD0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D76D29-4E9C-4DA3-A432-2385F331732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AA0D28-35F9-4827-9BBF-ADD3A622F6B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1025BC-04E3-4FC7-B7E4-24D09BA40C6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7509D7-8399-43DF-87A5-059279AC8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B7AA15-B024-4A45-A022-9ACBE9A7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463B7E-41CB-4697-93A2-627B35E8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ECD724-7539-42F5-A79B-6A5E2E26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03E00E-0015-4B60-A280-ACE28D75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150702-0268-40FF-84D7-AC57B086E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D420B2-57E0-4FAF-A897-59F01B24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F65376-ED4F-41AA-B118-78FE0C48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34F506-B7F3-4C66-8F97-61B6CB2B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F54C5E-16C0-4A2D-BEFE-A2EF49B3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5F7442-CF6F-4BD5-BD37-9AC4A3210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E0EE16-CC9B-4E3D-97E2-28BD2DF4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302778-D4FA-4DA5-9480-12D7483A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5A860-F784-4E02-BB88-F3F6397E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8CC9C-6B8C-4584-AB79-E4643F5C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674AF-E698-49DB-A3E9-D3641A0D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A664B-26F7-4FEC-87B7-016892AA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F4323A-96E7-486D-A88B-71EC33FC5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EF49C3-6826-400A-AE2F-D675DF50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7C49E6-2192-41D0-BD88-F88FBB10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BB4139-6A08-45E1-A958-CE693790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96DDC-450D-4D6C-8571-8F0C690909A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95B10-B64E-4341-91EE-122D6047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DD38C-10D9-49D6-9C31-D57E9B0DC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ADA20-DB2D-4AD1-A8E6-DE2A2791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30412E-2DEC-4A17-B15F-975A77C9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CDF532-AAEA-49A8-8ADA-44894E903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EDEBEF-B9C2-4EFF-8538-08E25E89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C1C68-AB03-4C0A-8DA1-C9540726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8E853-A815-4961-9BFB-96FC3A9F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5D2BE-067B-4B0F-9928-6D9BF8C2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B76571-17EB-42D4-8665-69FFB800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D3D1F-3FC5-4FE9-AE9D-06FAAE87EA1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B8073-2974-4AF8-BE4F-7B01D02C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2FD3E1-B01A-410F-AA99-385CA292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3E35DC-AFD1-4EED-9969-E0542BD2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DB558-B577-410D-9CB8-3422B2017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AFC02C-CE14-4350-92E4-AF4D4F5F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46E21-DC37-4F31-969C-C7FE27613F0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2A3C9-9846-4C28-875B-94EF8A066C0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5DC39-C7E9-4125-837E-9A149819E58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DD83B-E93D-4CF0-ABA3-70AA5F2BC79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595171-B003-400D-BC29-23F1BD7E4B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86D19-E0F4-474C-A2BE-71147F5F6F3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F7C8C-7F7A-49AF-AD1E-32B707208BF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EF319-83C8-4024-AD5A-7C0A1B987231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33B23-590A-40C5-A21F-3A768665B04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C4A5CE-98A4-4D06-B22B-A1B03BC4306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7EECB-460A-4173-A390-BF3AE07C01D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C180E5-00A3-41E8-85A0-B89AE192056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84754-7490-45F3-8A64-281D1FC6BC3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BBF651-8FE0-4441-9CFC-668CF969E31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4E71E5-8A77-4F58-BA65-242EDF37039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08DED1-B02C-4649-B7AE-E3B21E4043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332A7-1688-4676-A3D1-060A6B12469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5F2CCA8-FFCE-434C-9812-799F2D962FF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40C4206-693A-40A0-B57C-CBB53A1E4ED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348B04-2A03-4874-B5F5-AF69EAC8E7C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511A619-857E-41AB-B3E7-B78F511F3E6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E6E47B-08E9-4CE6-A202-6CB8159819C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5A4828-B464-4955-B5D5-D1088B5CFA0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3CACA6-7703-4D7E-AF7F-1200C0B4A24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233BC7-9818-47DB-876D-62C9F342683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8767E6-A326-4DAA-9807-DF0F6F4A60E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D20D3-3910-4ED5-A66B-9D9A98ABDE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859D-ACA3-462A-8663-ABB42C3812C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094B49-C0A4-4519-8BC1-8CC1DF77B1D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94ECA-EC64-4C39-A513-DE69FEF4D82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B5E008-6B69-4461-A055-9DC6F6FB2A7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889F8-51B9-4853-969E-4883172F76D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8493DC-31F3-4707-A268-58B9EC12165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C742BF-7C3A-4BA4-BA02-9F664D84A61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0C5EB7-3BED-43BC-82F9-40F47686205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12414D-35DE-4FB5-989E-06BDE1CEEF5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2240B9-F3A1-4093-AE62-9C0CD63C5F3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8277A8-F56D-4C39-9B39-CBF8B38416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95EC3-EA0D-4302-826F-7C6ADBBAE3D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CB33A8-6EE5-4E44-9142-2787028E5551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C25165-90B6-4603-A0A1-2E73FD6D764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6C825-23DA-416C-8E21-B89029AB971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D1220-D8B8-4D60-8C0F-F79A8BA0B6F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3E402B-BE1C-426D-9368-96DA64D9BFF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24797E-70AE-4F00-9C9B-D0FCEF92597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CD6DD-4FBA-41CA-9E00-E08FC8F9CC6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97F046-D332-4E51-8689-999F2A00EBD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68B42-5EB2-47D3-92BF-376EB9F5F92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BD9E03-9890-4A9C-812F-959669DC1C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51DA-0FC8-4208-84FF-EE75774BF3BD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FD8CC-8751-4179-A452-31DC2504F05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6EAD8-24DA-4390-A5CB-531EE6AE6EE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D2DF9-4024-4571-A20F-C62AE4D673E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B767AC-E8BF-4C3F-AAD3-5FB84BB386B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C04E7A-6B26-41E2-AC3B-609F9AADDCA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6B53BC-4D2C-4344-BCCA-DF609EAF1B22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A9DFB2-31A0-493C-8314-2FE2E21E1A0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E1DFB4-B543-4A1C-AFD0-55522D7359D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9E8F16-EDFA-48BA-A358-B3F20BBE7DC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1350E1-CDA1-4812-A8B9-34AC008267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41531-2EB2-46EA-AA11-F9DF3E1044C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34195E-B1DD-4ABF-8082-0DA638AA0D6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EF9727-1D08-4C09-8C51-6381040B31A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C1EB0C-0F4C-4A88-86C4-A096B174F63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1BBCF5-BBEB-4F8B-944C-DE889974C659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246E61-947C-45E2-A621-78D2648EA92A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44ED60-D517-4239-B0F1-E75526EF7BD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47D288A-1105-4B7C-AF7C-8CFB1A894090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A37294-19FE-4080-9153-8C1BA9962BB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1902C56-8A84-4E45-AB45-2B86CAF6B5B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4AFF12-8C6C-45DB-BC94-7B99C9357C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6F5B1-2F46-40C1-9A20-F828333048F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D118CF8-9B23-41DE-BCF1-E0C03F8AD4E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5FE5C45-1AA5-418F-993A-BCE74B932F6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5E1FD6C-B75F-43D1-9F4C-44CCCC84164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D75109C-6CD2-4874-827A-5F3D6AFFC9D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75DA4C-80EE-4C02-A156-A6F9D5F8C10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F474705-B120-46E9-A1DD-69F07F23FF7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47D1BE8-9287-477C-A0E2-1E59BEA7AA1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1D0012-1953-479E-B21E-593760C3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71700DC-B690-4185-8AA4-3077CD5E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2C28C85-F202-4EDB-A9F3-3CA6977E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92C5-D439-41B2-9F4F-1A8F005F6D5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78802F-E999-4052-B199-AFD16AA5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4E8414B-01B9-455C-9785-36D0EA18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831B2DC-20E0-46BB-AF6A-16724F31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99D9621-74A8-4DB8-AD7B-F0EC0028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71B6D1-27CA-4876-B34C-E1344639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8E3FCD7-6D0A-4C26-AB67-7D261AC2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A1A08D5-6339-4E31-AA44-4E3EE6CC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CF0D81F-3FAF-4282-9C8D-6B324B683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661FEDF-A253-4720-96C1-B83AA3EE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ABD524C-D7E4-4825-8DDD-86E2262E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4F5F0-338C-4121-B113-25C6337747E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839D6C-BD44-48E0-8D23-07FFEC2C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D45935C-1831-4645-8BC9-8B980793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5F379A-57E4-4244-9DF4-3B456980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002082-DAE4-4293-9EF7-BB65DD2E1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36BD766-4808-4CFE-9AD3-14B7F262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5DDB21F-0A4C-4D21-9E56-21BE0922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66A7336-8BB6-4541-AA7F-8194317A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E06E19D-3FAC-49F0-9A20-2D4E438C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1945D02-7346-4D9E-BD7B-555D35FD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3B3CD44-B183-473F-995D-91825FF7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8C831-0F50-4883-846D-510515F7404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90D5625-2929-4490-A05C-FC40598C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7C6BFF7-C402-4F12-9984-45C46BC9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4FEF3F7-B69F-4EB3-9AF4-A2F2A00C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A785967-5D70-4853-B0D5-50D8B38B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043E97C-B609-43BE-9D45-A9C5C21A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CA00B63-0D0B-4087-A835-AD04774F2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0C6A128-1099-4330-8C6D-0944908C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6E79503-7B0D-4A88-B74F-AE9C5813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0B7B5E5-9DA6-490B-9532-B555E9AC6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BE2D42A-B58F-4B29-B16A-599EF910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3CA1C59-B4AF-4258-9D1F-9B90696E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EC3E0A3-4B7D-4E0D-A985-529872A4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76FD6C2-C9E2-4BD9-8F64-CE8CA97D9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CDE9731-3715-4451-9531-63560941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5D93B22-0793-4C1D-BF2C-BB5A4CAA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67E2F57-F2EC-4CC8-9DDE-6B2E734D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79D941A-1FDA-49CC-8B0E-BDE107EF7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C53704C-4527-463A-899D-48B7FB62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811491-0641-4195-9DA6-1F0E13E8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D614EFB-5D0A-44FC-9DE4-8357A1CD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FBE08A5-9ACA-48FF-ADE1-9B4B7BC7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1455DE2-EE06-4D66-AA6E-070AEC1B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AA01338-701F-4C55-A617-67339404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654858-611C-4593-8395-919A09EB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D9FB412-6856-41F1-BFFC-7C93A34AC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9FCB294-0D08-40AA-ABEB-9EB6C746C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A1EA389-A470-41F1-996E-F71EBA46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784DA0E-1F33-4196-BF39-D4017545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915E2CC-F06C-47E7-A2E3-877C8863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67F7AD7-ED2C-4472-8EFB-AEE06F2A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BFAAC4B-539D-4EE1-968C-F82339F9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A48118D-D67E-45F5-8D96-47F5B0F5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B7A6D66-9088-4AC4-8CF9-97C86EE2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5E99567-7F67-442A-8698-A5B8096C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E5742F1-AD50-4589-8F16-563E614D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839C7DD-4A83-43FE-9AF4-5681A370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5664211-CEF1-4749-A41C-9ECB0284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D7C2747-1CD5-4B1A-A64D-41ADB3A0E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4956353-A188-449F-8604-ED289B66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68E1BC9-B603-47F3-8E37-AED2BC36B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4D793BD-F6A1-4B00-BA5E-0E126DDB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93996BF-5DF1-4EA7-B876-168E4B35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034D5F1-5E6E-4320-A3D7-CBEFEDA4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C95D520-FB9E-409E-9980-60FED523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0C2A0F8-7BE1-4D25-9A88-B4BDDBBF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3F65827-9001-4E55-A521-701C8FC8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B83EBE7-7E1B-4639-A48C-D7B0973C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DE70AE3-E86B-4D65-AEC6-1E0E125C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110E216-C933-4B20-A191-D3D76819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4DCA9F9-4F7A-4F9D-8776-E0CCD441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E34DE5F-980B-4B4D-ABEA-AE84B7F2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C75AAB5-6532-401C-A4F9-852D02C3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171DCF6-51CE-4214-9A65-2FE38A49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A2A7751-4CE4-45ED-B27F-37A1C571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8DE1DD8-9305-459B-9191-D8CAC585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FEEAEF2-5834-4784-8D5A-ADA44417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3BD2583-2A85-4B3F-AE54-04111BFC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514E234-99D8-489C-9A1E-163A1A1F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24A4228-A82B-43B6-9CE7-6DC677F3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6B63BC5-025E-4174-BFE6-F5E9004ED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035544E-A94C-46E2-A278-B3CF470B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4BCE853-3A0B-4C7A-BE78-6B76D7996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4919D26-98A6-43FB-967C-AA764FA5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9791DD0-AA1B-4ACA-9110-A8642490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3565AC6-8550-482E-A65B-6A60EFEF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3A1A4B1-CDC7-49F6-9330-5CAEC4BB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BA0DE8A-482D-485E-A98C-1005254D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9411B96-304E-4633-A777-1988045B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410D02F-A7A7-4A20-8A20-8C6CCDC3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D9BD01B-1B48-41F1-B8B4-5FE652DB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A1FA206-87CC-4FC2-A0F3-7E047C49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FF9C5E8-CC84-4E71-BB13-F5CFCFD3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939A842-5D79-4D4A-B9A2-EF5F8CBC4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894D484-D426-4231-83F5-E95301D8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F184578-A8BD-4B6D-8BCE-17F2F59F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C3579744-47BC-42AE-B83F-596164BF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2D145D6-4892-445D-9D73-D3695490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49CCDEE-30D9-4FF2-906C-E588317A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E91F58F-8075-4BA2-8882-672D5DA5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7F9DA2F-D20E-45FA-A9AC-F4FA0300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9D98C43-C882-48E8-9A0A-641B2240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345E981-EC57-4FE0-93B1-78C35358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8C5435A-4F2F-404D-8BA8-9739D17C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B41CC8B-5136-48F6-BCDF-363522DE6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57F67DA-C171-487A-84E0-50F0DA507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9EF50B2-AB70-4602-981B-9DB58294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1152CC9-0229-4C1F-BEDE-13B5DFD9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12CE505-C877-41DD-B763-AE79E1BA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3A71246-EBA7-469B-8C93-5046BB14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4EF06DF-D19D-45B9-8A63-412B1464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D4F5EF7-A1A4-4BD7-8B46-82F27059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7426622-87C9-45DB-B1A8-738DE3C8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A54C7FC-DF4E-44BE-8987-0575617E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CDAD3F2-5467-4DD9-97E7-F6A40AA5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582297B-D61F-4FC2-91A9-1C5FA36B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53CC1E9-F282-4751-8DAE-F9EA397D5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34F8076-C9A5-4BC1-8580-DD167C60A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0B2489D-59DA-48FD-874E-A94F9F191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6C89C67-5E63-47F0-9E05-3D08AF1C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31ED5DF-E9BD-4F78-8A34-27928D43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D6A9DC8-8E1C-4096-AFFC-5ECA9317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C2A4FF1-AD68-479D-AD78-73E8BDD1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45EB221-5602-4E38-A032-4173940A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10716B8-4C1F-4035-89CE-74FDEA6D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94FFE73-265F-4EE7-B1F5-22DCE04F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EEAA92C-9CCE-4546-9371-6FC76A41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4E5DB54-8DC1-4362-A149-400902FD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29A811B-7A2E-457E-9DD3-5C218349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688F01B-BDD5-44EE-98B8-728AABAE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49C61-8928-4DFA-B800-7E9AD49F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D21282-0C8B-4EB0-9533-ED71D27C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F52C5-70B0-4CCA-9FFD-2ADF5487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0DBF3-A44C-47FE-858A-DA23E399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82043-F9DE-4521-9CEE-FC1B7A38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C82D9-1505-4B78-AAEB-99EC2C28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A83258-1C17-4B9C-8F77-45AD7B70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EAB04-9603-4A4E-8B71-5B98E947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727D9-CF3B-417C-AC45-C78F4C5C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68E200-883C-4F55-A379-35F9756F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A5328-3880-4D08-AAEC-D00C6DB8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66D251-4C27-4AB3-A22A-72801FA5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099E3D-AB3A-45D4-996E-59A5C8E6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51B42-3AD6-43C9-921F-9F823276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E4E1CE-068D-416D-9D05-14C229CE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B10E6E-C776-44C3-ADC1-5F48B62CA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DEB7F-C706-4653-AAAD-3AEE50CB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7C59B-7E49-4B96-AC59-617E0794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2E33FC-5665-4466-B2D4-D100041B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27C983-9A2E-4FA4-8753-4CE8B490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F7557-ECEF-4360-B721-96F178EC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85103C-AF85-4928-A100-84322471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8E5F8-A528-45C1-A28D-506A402B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31BD88-A2DA-497A-9688-F0B58BFD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CB81D5-04D5-47D8-91D9-82B1AFC21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5B6F7B-6FF6-4F5C-B75F-A2859C13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F2101-773B-4475-9776-94B95B53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95E061-7A8E-4783-81D2-01B5FD4F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17214-0F5C-46FE-A4BF-32A6B17B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6AF9BA-C092-436B-955A-110BF8FA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D1EFBC-7C1F-4CF0-A5C3-00DDD408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C71791-66C3-4A5D-B4E0-0128C221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1337F3-8F70-428C-8205-CFA9B41B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A8EA0-4BC8-455A-98EF-3B7211EE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AD0ACD-BBDB-495F-B0F8-EC8631FF3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62BBA-8EA6-4635-ACF6-24A55C09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88F2D-9249-49A3-9983-6153B7D1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4C518-493B-4C2B-8247-DF24A97F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21E9F-C15E-4251-8ED6-2CEA3232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733B7-EE76-443E-88AD-41280DEC1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940DAF-08A8-44F6-A1B4-5FFC37CB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2F080A-11EA-44EB-A2EB-E7E68603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77483-AD8B-452C-9C64-8CC8A7AA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E39FD-816A-47DC-82E9-D338DE93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DD3B86-1763-4203-99B1-A96450B0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9A942C-0B25-43EC-A13C-35BBEB79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9CB37A-0302-41B6-A796-C9D57086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1D4374-8664-40E6-B37E-A12DAE2C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1710B-4D83-4F1D-9837-91718D2A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6EC4C-5EB0-4157-A23C-7EA5A2CE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29FDBA-D873-411D-AAE9-372BCF5C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4D583B-4A1B-4423-9CBA-9250B305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B900A-5BA7-4EF0-866B-3B087E11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52540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72F054-9866-45C4-BA94-0AB69663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F3F1C-D390-4301-AF85-13B7A222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7DEB08-F17B-41F7-A1D7-EB89A084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CBDE74-7315-425B-9129-97528393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13044E-B187-439A-9144-31FF89FB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A103F-C674-4BF7-B3D5-80814C12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1E82E-E623-4678-994F-FAA31C5C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29F517-B3D2-40BA-96C6-8F013305681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E16038-8DC5-44DD-9243-744E5582817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E2BAE6-C612-44E3-9D8A-BBF309FB0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4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2F6A7-C9EC-4E09-902D-6D0B0C41CFA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2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CB7DE-E456-4A00-A76C-62EA5241AD0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DB957-A962-49EE-9C5A-D3B0F3C1981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7F7A5-D8C5-4879-A8B3-72836A8C948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BABFD6-95F6-4EBE-8489-9339A4ED919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2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C0B0B-1D4E-41E1-9E4F-5B3FB3FE80A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ftr" idx="2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sldNum" idx="3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33CFA-83CD-41BD-BF5C-A035017FB1E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3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3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BD15F3-2534-49EC-B218-14BFBA56400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ftr" idx="33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sldNum" idx="34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058E5-DA05-4CF0-802A-CBC41B022E2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35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36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C4688-DF1C-4AB8-B96C-E35A446EA8A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ftr" idx="37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sldNum" idx="38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C785E8-4D74-4C96-A6B6-2761D972730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ftr" idx="39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sldNum" idx="40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B4404-0790-4F19-A394-89F9FA5F99A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2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03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05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7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 type="dt" idx="4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96413-CC34-42A2-85CA-121E6D1926E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 type="ftr" idx="4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 type="sldNum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C5651-4094-4ECA-95D7-2D423EDA9A8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2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53921E-DC6C-42E2-B2C4-1304C872DF0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53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55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6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7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8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dt" idx="4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5046B2-E143-4CDD-B824-00DAC341F7B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ftr" idx="4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sldNum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59282-3E1D-4F07-8D47-024CA0CEC18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1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02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04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7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dt" idx="4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1133C-18E5-4553-9490-F2B79A9CE7B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 type="ftr" idx="4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 type="sldNum" idx="4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B27EFB-416D-4648-9F72-C8DE07A5BBB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0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951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53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4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5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6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dt" idx="5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D35E25-D481-4C88-99A7-E594332B3B9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ftr" idx="5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sldNum" idx="5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9F8AA2-70EC-4B0E-9500-C4DF69959F2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9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00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02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dt" idx="5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DCDBB2-3AD3-4628-A1A5-9F14CD27798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ftr" idx="5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95E238-401E-4965-9C19-4311B41B72A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8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49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51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dt" idx="5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AA984-867E-4CB3-8FAA-371886E46AE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 type="ftr" idx="5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 type="sldNum" idx="5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E2F62-9B8C-4D0C-9987-4EBA98F9136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7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098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00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3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6CD43-AFD3-475D-A88E-A4AAA80B904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ftr" idx="6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F13A2-D89B-46E0-9A61-92A263DB295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46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147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9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0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1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2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D5EFB-214D-4F89-897F-0674261B311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 type="ftr" idx="6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 type="sldNum" idx="6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940730-D32D-4901-A6B6-DB62C38E151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5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196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98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1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FCE67-9F42-4524-A72D-9D3138D91D4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2E4921-FD4A-4045-8E41-6EE68B7448C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4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245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47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8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9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0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CBA90-5151-46A5-BC00-7A272F42F7B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DCB47-F893-43BE-9EB5-A52A9CD117B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3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1294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96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9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84603D-5A6F-4526-B25B-3DFA0408F0F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CC6CAE-3948-4EC3-BAFA-9BE976B0F003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4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ef41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7153200" y="0"/>
            <a:ext cx="1990800" cy="6629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243" dir="5626691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" name="Group 11"/>
          <p:cNvGrpSpPr/>
          <p:nvPr/>
        </p:nvGrpSpPr>
        <p:grpSpPr>
          <a:xfrm>
            <a:off x="7153200" y="2058840"/>
            <a:ext cx="1990800" cy="2038320"/>
            <a:chOff x="7153200" y="2058840"/>
            <a:chExt cx="1990800" cy="2038320"/>
          </a:xfrm>
        </p:grpSpPr>
        <p:sp>
          <p:nvSpPr>
            <p:cNvPr id="89" name="Rectangle 6"/>
            <p:cNvSpPr/>
            <p:nvPr/>
          </p:nvSpPr>
          <p:spPr>
            <a:xfrm>
              <a:off x="7153200" y="2058840"/>
              <a:ext cx="895320" cy="2038320"/>
            </a:xfrm>
            <a:prstGeom prst="rect">
              <a:avLst/>
            </a:prstGeom>
            <a:solidFill>
              <a:srgbClr val="006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tangle 7"/>
            <p:cNvSpPr/>
            <p:nvPr/>
          </p:nvSpPr>
          <p:spPr>
            <a:xfrm>
              <a:off x="8048520" y="2058840"/>
              <a:ext cx="1095480" cy="2038320"/>
            </a:xfrm>
            <a:prstGeom prst="rect">
              <a:avLst/>
            </a:prstGeom>
            <a:solidFill>
              <a:srgbClr val="ef41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1" name="Picture 1" descr=""/>
            <p:cNvPicPr/>
            <p:nvPr/>
          </p:nvPicPr>
          <p:blipFill>
            <a:blip r:embed="rId2"/>
            <a:stretch/>
          </p:blipFill>
          <p:spPr>
            <a:xfrm>
              <a:off x="7252920" y="2161800"/>
              <a:ext cx="696600" cy="50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1" descr=""/>
            <p:cNvPicPr/>
            <p:nvPr/>
          </p:nvPicPr>
          <p:blipFill>
            <a:blip r:embed="rId3"/>
            <a:stretch/>
          </p:blipFill>
          <p:spPr>
            <a:xfrm>
              <a:off x="8146080" y="2161800"/>
              <a:ext cx="89604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" descr=""/>
            <p:cNvPicPr/>
            <p:nvPr/>
          </p:nvPicPr>
          <p:blipFill>
            <a:blip r:embed="rId4"/>
            <a:stretch/>
          </p:blipFill>
          <p:spPr>
            <a:xfrm>
              <a:off x="8151120" y="3876480"/>
              <a:ext cx="893880" cy="15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Rectangle 12"/>
          <p:cNvSpPr/>
          <p:nvPr/>
        </p:nvSpPr>
        <p:spPr>
          <a:xfrm>
            <a:off x="4680" y="0"/>
            <a:ext cx="7148520" cy="6629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7996" dir="3776964" blurRad="0" rotWithShape="0">
              <a:srgbClr val="808080">
                <a:alpha val="7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2540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2BA5D4-D4F0-4E5A-9FAB-C1407176BDA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355FC0-D95D-4668-8898-D3C0775F9AA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3B9EB-DA21-4D2D-8210-2A30A533A66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CDCCA2-A798-428B-AB07-0F40459C2924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0E4E0B-1CE8-4848-8920-5B97B4E5411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E9DF9-8877-43C9-9438-C93731A4E39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c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4"/>
          <p:cNvSpPr/>
          <p:nvPr/>
        </p:nvSpPr>
        <p:spPr>
          <a:xfrm>
            <a:off x="533520" y="3333600"/>
            <a:ext cx="1033200" cy="35244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5"/>
          <p:cNvSpPr/>
          <p:nvPr/>
        </p:nvSpPr>
        <p:spPr>
          <a:xfrm>
            <a:off x="1566720" y="3333600"/>
            <a:ext cx="1260720" cy="3524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1" descr=""/>
          <p:cNvPicPr/>
          <p:nvPr/>
        </p:nvPicPr>
        <p:blipFill>
          <a:blip r:embed="rId2"/>
          <a:stretch/>
        </p:blipFill>
        <p:spPr>
          <a:xfrm>
            <a:off x="647640" y="3452760"/>
            <a:ext cx="803160" cy="5857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" descr=""/>
          <p:cNvPicPr/>
          <p:nvPr/>
        </p:nvPicPr>
        <p:blipFill>
          <a:blip r:embed="rId3"/>
          <a:stretch/>
        </p:blipFill>
        <p:spPr>
          <a:xfrm>
            <a:off x="1677960" y="3452760"/>
            <a:ext cx="1031760" cy="41904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70"/>
          <p:cNvSpPr/>
          <p:nvPr/>
        </p:nvSpPr>
        <p:spPr>
          <a:xfrm>
            <a:off x="533520" y="0"/>
            <a:ext cx="1033200" cy="13716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71"/>
          <p:cNvSpPr/>
          <p:nvPr/>
        </p:nvSpPr>
        <p:spPr>
          <a:xfrm>
            <a:off x="1566720" y="0"/>
            <a:ext cx="1260720" cy="13716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823A3-B855-4B6B-925D-9A915883DBA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A38AD-4054-4F1D-B821-976B9732E5CC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9D068F-F78E-4886-9BB5-B856FE68701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16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17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D89EB1-F883-4324-9B3A-67ACD3846C6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6"/>
          <p:cNvSpPr/>
          <p:nvPr/>
        </p:nvSpPr>
        <p:spPr>
          <a:xfrm>
            <a:off x="8413920" y="-6480"/>
            <a:ext cx="284040" cy="86688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8697960" y="0"/>
            <a:ext cx="347760" cy="8604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183" dir="27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8413920" y="6400800"/>
            <a:ext cx="284040" cy="457200"/>
          </a:xfrm>
          <a:prstGeom prst="rect">
            <a:avLst/>
          </a:prstGeom>
          <a:solidFill>
            <a:srgbClr val="006cb7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8697960" y="6400800"/>
            <a:ext cx="347760" cy="457200"/>
          </a:xfrm>
          <a:prstGeom prst="rect">
            <a:avLst/>
          </a:prstGeom>
          <a:solidFill>
            <a:srgbClr val="ef4144"/>
          </a:solidFill>
          <a:ln w="0">
            <a:noFill/>
          </a:ln>
          <a:effectLst>
            <a:outerShdw dist="38251" dir="12902172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16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6cb7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51920" y="1477440"/>
            <a:ext cx="81774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595959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595959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ftr" idx="18"/>
          </p:nvPr>
        </p:nvSpPr>
        <p:spPr>
          <a:xfrm>
            <a:off x="18720" y="6527520"/>
            <a:ext cx="28954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9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900" spc="-1" strike="noStrike">
                <a:solidFill>
                  <a:srgbClr val="898989"/>
                </a:solidFill>
                <a:latin typeface="Verdana"/>
              </a:rPr>
              <a:t>Gobierno de Chile | Ministerio del Interi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sldNum" idx="19"/>
          </p:nvPr>
        </p:nvSpPr>
        <p:spPr>
          <a:xfrm>
            <a:off x="6183000" y="6527880"/>
            <a:ext cx="2133720" cy="1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EE094-55DF-4B6F-9680-2B4F0FEA08D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76000" y="1557000"/>
            <a:ext cx="74883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APLICACIÓN LEY Nº 20.649</a:t>
            </a:r>
            <a:br>
              <a:rPr sz="3200"/>
            </a:b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RETIRO VOLUNTARIO FUNCIONARIOS MUNICIPAL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2 CuadroTexto"/>
          <p:cNvSpPr/>
          <p:nvPr/>
        </p:nvSpPr>
        <p:spPr>
          <a:xfrm>
            <a:off x="1979640" y="1793880"/>
            <a:ext cx="41050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Verdana"/>
              </a:rPr>
              <a:t>POSTUL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2 CuadroTexto"/>
          <p:cNvSpPr/>
          <p:nvPr/>
        </p:nvSpPr>
        <p:spPr>
          <a:xfrm>
            <a:off x="1398600" y="2997360"/>
            <a:ext cx="5621400" cy="100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rimer periodo: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primer trimestre del año 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Segundo periodo: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primer trimestre del año 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1 CuadroTexto"/>
          <p:cNvSpPr/>
          <p:nvPr/>
        </p:nvSpPr>
        <p:spPr>
          <a:xfrm>
            <a:off x="1116000" y="4917960"/>
            <a:ext cx="65516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b050"/>
                </a:solidFill>
                <a:latin typeface="Arial"/>
              </a:rPr>
              <a:t>IMPORTANTE:  no se presenta la renuncia al momento de post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692360" y="1196640"/>
            <a:ext cx="5943600" cy="57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OPORTUNIDAD DE POSTULACIONES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61" name="3 CuadroTexto"/>
          <p:cNvSpPr/>
          <p:nvPr/>
        </p:nvSpPr>
        <p:spPr>
          <a:xfrm>
            <a:off x="1457280" y="2157480"/>
            <a:ext cx="6192720" cy="43628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Damas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que cumplan la edad exigida desde 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1/1/2011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hasta 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31/12/2013,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postulan en el primer o segundo peri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Damas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que cumplan la edad exigida entre 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01/01/2014 y el 30/06/2014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, postulan en el segundo peri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Varones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que cumplan la edad exigida desde 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1/1/2011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hasta 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31/12/2013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, postulan en el primer peri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Varones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que cumplan la edad exigida entre 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01/01/2014 y el 30/06/2014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, postulan en el segundo peri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Damas y Varones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que cumplieron la edad antes d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31/12/2010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, postulan en cualquier perio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2 CuadroTexto"/>
          <p:cNvSpPr/>
          <p:nvPr/>
        </p:nvSpPr>
        <p:spPr>
          <a:xfrm>
            <a:off x="1763640" y="549360"/>
            <a:ext cx="619308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Verdana"/>
              </a:rPr>
              <a:t>ACCIONES DE LAS MUNICIPALIDADES EN EL PROCESO DE POSTUL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3" name="3 CuadroTexto"/>
          <p:cNvGrpSpPr/>
          <p:nvPr/>
        </p:nvGrpSpPr>
        <p:grpSpPr>
          <a:xfrm>
            <a:off x="969840" y="1554120"/>
            <a:ext cx="7491600" cy="4582080"/>
            <a:chOff x="969840" y="1554120"/>
            <a:chExt cx="7491600" cy="4582080"/>
          </a:xfrm>
        </p:grpSpPr>
        <p:pic>
          <p:nvPicPr>
            <p:cNvPr id="1364" name="3 CuadroTexto" descr=""/>
            <p:cNvPicPr/>
            <p:nvPr/>
          </p:nvPicPr>
          <p:blipFill>
            <a:blip r:embed="rId1"/>
            <a:stretch/>
          </p:blipFill>
          <p:spPr>
            <a:xfrm>
              <a:off x="969840" y="1554120"/>
              <a:ext cx="7491600" cy="45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5" name=""/>
            <p:cNvSpPr/>
            <p:nvPr/>
          </p:nvSpPr>
          <p:spPr>
            <a:xfrm>
              <a:off x="1187280" y="1773360"/>
              <a:ext cx="705672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Notificar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a los funcionarios que cumplan el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requisito de edad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Recibir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las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solicitudes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de retiro voluntario y del bono post laboral ,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entregando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copias con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constancia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de recepció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Comunicar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en un plazo de 5 días la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falta de algún antecedente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Comunicar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en un plazo de 5 días que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no se cumple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con los requisitos para postular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Tramitar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el acuerdo del Concejo para otorgar la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bonificación por retiro complementaria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de hasta 5 mese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Ingresar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los datos de los postulantes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a la página del SINIM 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a mas tardar a los 15 días de cerrado cada periodo de postulación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Enviar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a la SUBDERE el </a:t>
              </a:r>
              <a:r>
                <a:rPr b="1" lang="es-ES" sz="2000" spc="-1" strike="noStrike">
                  <a:solidFill>
                    <a:srgbClr val="ffffff"/>
                  </a:solidFill>
                  <a:latin typeface="Calibri"/>
                </a:rPr>
                <a:t>certificado</a:t>
              </a:r>
              <a:r>
                <a:rPr b="0" lang="es-ES" sz="2000" spc="-1" strike="noStrike">
                  <a:solidFill>
                    <a:srgbClr val="ffffff"/>
                  </a:solidFill>
                  <a:latin typeface="Calibri"/>
                </a:rPr>
                <a:t> del Secretario Municipal en formato digital y formato físico con detalle de postulante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1618920" y="744480"/>
            <a:ext cx="624204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SELECCIÓN DE BENEFICIARIOS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67" name="3 CuadroTexto"/>
          <p:cNvSpPr/>
          <p:nvPr/>
        </p:nvSpPr>
        <p:spPr>
          <a:xfrm>
            <a:off x="1258920" y="1773360"/>
            <a:ext cx="6842160" cy="4057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En el evento de que el número de postulantes supere al número de cupos, la selección se efectuará de la siguiente manera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El total de cupos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se distribuirá entre damas y varones en la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proporción de postulantes de cada género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En cada grupo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se privilegiará a los postulantes de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mayor edad y menor ren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De existir empate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se elegirá al postulante con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mayor antigüedad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en el municip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De persistir la igualdad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, se usará la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mayor antigüedad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en la administración municip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l mantenerse el empate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se seleccionará por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orden alfabético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según los apelli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1402920" y="1125000"/>
            <a:ext cx="6264360" cy="790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400" spc="-1" strike="noStrike">
                <a:solidFill>
                  <a:srgbClr val="006cb7"/>
                </a:solidFill>
                <a:latin typeface="Verdana"/>
              </a:rPr>
              <a:t>3.- CESE DE FUNCIONES, PAGOS Y OTROS ASPECTOS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69" name=""/>
          <p:cNvSpPr txBox="1"/>
          <p:nvPr/>
        </p:nvSpPr>
        <p:spPr>
          <a:xfrm>
            <a:off x="1402920" y="2349360"/>
            <a:ext cx="6264360" cy="360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Verdana"/>
              </a:rPr>
              <a:t>PLAZOS PARA CESE DE FUNCIONE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ACCIONES DE LAS MUNICIPALIDADES EN EL PROCESO  PREVIO AL PAGO DE LOS BENEFICIO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PROHIBICIONE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FINANCIAMIENTO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OPORTUNIDAD DEL PAGO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1907640" y="549000"/>
            <a:ext cx="5759640" cy="87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PLAZOS PARA CESE DE FUNCIONES DE LOS BENEFICIADOS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71" name=""/>
          <p:cNvSpPr txBox="1"/>
          <p:nvPr/>
        </p:nvSpPr>
        <p:spPr>
          <a:xfrm>
            <a:off x="826920" y="1844640"/>
            <a:ext cx="7777440" cy="4105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Quienes cumplieron la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edad hasta el 31/12/2010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, deben cesar hasta los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90 días después de dictada la resolución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que los nomina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Quienes cumplieron la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edad en los años 2011 o 2012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y postularon en el primer periodo, deben cesar hasta el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31 de marzo de 2014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Damas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 que cumplieron la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edad en los años 2011 o 2012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y postularon en el segundo periodo, deben cesar hasta el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31 de marzo de 2015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Quienes cumplan la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edad en el año 2013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y postulen en el primer periodo, deben cesar hasta el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31 de diciembre de 2014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Damas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 que cumplan la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edad en el año 2013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y postulen en el segundo periodo, deben cesar hasta el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31 de marzo de 2015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Quienes cumplan la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edad en el año 2014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deben cesar hasta el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31 de marzo de 2015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849240" y="765000"/>
            <a:ext cx="7732800" cy="82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ACCIONES DE LAS MUNICIPALIDADES EN EL PROCESO PREVIO AL PAGO DE LOS BENEFICIOS</a:t>
            </a:r>
            <a:br>
              <a:rPr sz="2400"/>
            </a:b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73" name=""/>
          <p:cNvSpPr txBox="1"/>
          <p:nvPr/>
        </p:nvSpPr>
        <p:spPr>
          <a:xfrm>
            <a:off x="468360" y="1773360"/>
            <a:ext cx="8424720" cy="45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Notificar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 a los interesados los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resultados de su postulación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dentro de los 5 días siguientes a la publicación de la resolución que nomina a los beneficiados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35880" indent="-335880" algn="just"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Informar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 a quienes resultaron beneficiados el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plazo que tienen para cesar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en funciones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35880" indent="-335880" algn="just"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Solicitar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 a los beneficiados que presenten su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renuncia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conforme a la fecha de cese que estimen conveniente, en un plazo no superior a 15 días contados desde la notificación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35880" indent="-335880" algn="just"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Ingresar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 datos de beneficiados al sitio habilitado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en la página WEB del SINIM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dentro de los 10 días siguientes al término del plazo para presentar las renuncias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35880" indent="-335880" algn="just">
              <a:spcBef>
                <a:spcPts val="451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Enviar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 certificado del Secretario Municipal con los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datos de los beneficiarios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e indicando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que se pedirá o no el anticipo del Fondo Común Municipal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Enviar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 en los primeros 5 días de cada mes, a partir de la remisión del certificado antes señalado,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los decretos de cese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de los beneficiarios que dejaron de prestar servicio en el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mes inmediatamente anterior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35880" indent="-3358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Tramitar el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bono post laboral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2339640" y="836280"/>
            <a:ext cx="3816360" cy="46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PROHIBICIONES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75" name=""/>
          <p:cNvSpPr txBox="1"/>
          <p:nvPr/>
        </p:nvSpPr>
        <p:spPr>
          <a:xfrm>
            <a:off x="971280" y="1700280"/>
            <a:ext cx="7358040" cy="3679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Beneficiarios: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399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No podrán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ser nombrados ni contratados asimilados a grado o sobre la base de honorarios en establecimientos de salud públicos, municipales, corporaciones o entidades administradoras, ni municipalidades, y en general, en cualquier institución que conforma la administración del Estado, durante los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cinco años siguientes al término de su relación laboral.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Municipios: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lvl="1" marL="39996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Sólo podrán 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destinar los fondos transferidos en virtud de la ley al pago de las </a:t>
            </a:r>
            <a:r>
              <a:rPr b="1" lang="es-ES" sz="1800" spc="-1" strike="noStrike">
                <a:solidFill>
                  <a:srgbClr val="595959"/>
                </a:solidFill>
                <a:latin typeface="Calibri"/>
              </a:rPr>
              <a:t>bonificaciones</a:t>
            </a:r>
            <a:r>
              <a:rPr b="0" lang="es-ES" sz="1800" spc="-1" strike="noStrike">
                <a:solidFill>
                  <a:srgbClr val="595959"/>
                </a:solidFill>
                <a:latin typeface="Calibri"/>
              </a:rPr>
              <a:t> contempladas en el cuerpo legal. La no destinación de los fondos a los señalados fines será sancionada de acuerdo a la escala de penas establecidas en el artículo 233 del Código Penal</a:t>
            </a: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2266560" y="855360"/>
            <a:ext cx="4249800" cy="46836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FINANCIAMIENTO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77" name=""/>
          <p:cNvSpPr txBox="1"/>
          <p:nvPr/>
        </p:nvSpPr>
        <p:spPr>
          <a:xfrm>
            <a:off x="1042560" y="1773000"/>
            <a:ext cx="7489800" cy="3816360"/>
          </a:xfrm>
          <a:prstGeom prst="rect">
            <a:avLst/>
          </a:prstGeom>
          <a:noFill/>
          <a:ln cap="rnd" w="381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Cargo fiscal: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Bonificación adicional de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395 UF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Bono especial por trabajos pesados equivalente a 10 UF por cada año de trabajo pesado ,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con tope de 100 UF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Cargo Municipal: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Bonificación por retiro voluntario con un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máximo de seis meses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de remuneraciones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Bonificación por retiro complementaria con un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máximo de cinco meses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 de remuneraciones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Bono especial equivalente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100 UF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a funcionarios de los escalafones de Directivos, Jefatura y Profesionales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979640" y="728280"/>
            <a:ext cx="4392720" cy="46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OPORTUNIDAD DE PAGO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79" name=""/>
          <p:cNvSpPr txBox="1"/>
          <p:nvPr/>
        </p:nvSpPr>
        <p:spPr>
          <a:xfrm>
            <a:off x="900000" y="1988640"/>
            <a:ext cx="6912000" cy="3319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1.-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Las bonificaciones de cargo municipal se deben pagar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inmediatamente después del cese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de funciones. (Art. 6º)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En el caso de que solicite financiamiento del Fondo Común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Municipal el pago de las bonificaciones por retiro voluntario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y por retiro complementaria  se efectuará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una vez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transferidos los recursos de dicho fondo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2.-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La bonificaciones de cargo fiscal se pagarán una vez que se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tramite la resolución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 de la SUBDERE que determina los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montos a transferir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843280" y="1226880"/>
            <a:ext cx="3124080" cy="46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TEMARIO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1042560" y="2492280"/>
            <a:ext cx="7201080" cy="194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1.-</a:t>
            </a: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REQUISITOS Y BENEFICIO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2.- </a:t>
            </a: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POSTULACIONES Y SELECCIÓN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Verdana"/>
              </a:rPr>
              <a:t>3.- </a:t>
            </a: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CESE DE FUNCIONES, PAGOS Y  OTROS ASPECTO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440" y="1628640"/>
            <a:ext cx="78469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racias.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1 CuadroTexto"/>
          <p:cNvSpPr/>
          <p:nvPr/>
        </p:nvSpPr>
        <p:spPr>
          <a:xfrm>
            <a:off x="726120" y="4797360"/>
            <a:ext cx="531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tiro.voluntario@subdere.gov.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908000" y="1125000"/>
            <a:ext cx="5400720" cy="530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1.- REQUISITOS Y BENEFICIOS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1402920" y="2349000"/>
            <a:ext cx="6264360" cy="2808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OBJETIVO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PERIODO EN QUE DEBEN CUMPLIRSE LAS EDADES 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CUPOS ESTABLECIDO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BENEFICIOS ESTABLECIDO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REQUISITOS ESPECIALE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8 CuadroTexto"/>
          <p:cNvSpPr/>
          <p:nvPr/>
        </p:nvSpPr>
        <p:spPr>
          <a:xfrm>
            <a:off x="2556000" y="777960"/>
            <a:ext cx="410364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Verdana"/>
              </a:rPr>
              <a:t>OBJE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1 CuadroTexto"/>
          <p:cNvSpPr/>
          <p:nvPr/>
        </p:nvSpPr>
        <p:spPr>
          <a:xfrm>
            <a:off x="1476360" y="2133720"/>
            <a:ext cx="6120000" cy="2228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Establece una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bonificación por retiro voluntario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ara los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funcionarios municipales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regidos por el Título II del decreto ley N° 3.551, de 1980, y por la ley N°18.883, que fija el Estatuto Administrativo de los Funcionarios Municipales, que cumplan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60 años de edad si son mujeres o 65 años de edad si son hombres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y cesen en sus cargos por aceptación de renuncia voluntar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1 CuadroTexto"/>
          <p:cNvSpPr/>
          <p:nvPr/>
        </p:nvSpPr>
        <p:spPr>
          <a:xfrm>
            <a:off x="1979640" y="1052640"/>
            <a:ext cx="496872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Verdana"/>
              </a:rPr>
              <a:t>PERIODO EN QUE DEBEN CUMPLIRSE LAS EDA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3 CuadroTexto"/>
          <p:cNvSpPr/>
          <p:nvPr/>
        </p:nvSpPr>
        <p:spPr>
          <a:xfrm>
            <a:off x="1666800" y="2637000"/>
            <a:ext cx="5904000" cy="3143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Cumplan o hayan cumplido las edades citadas entre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el 01/01/2011 y el 30/06/2014 (Art. 1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Hayan cumplido las edades mencionadas hasta 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31/12/2010 (Art. 14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Acrediten trabajos pesados 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ara rebajar las edades antes señaladas (Inc. 2º del Art. 1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Quienes acrediten cese por: pensión de invalidez, salud irrecuperable o salud incompatible, deben cumplir las edades entre el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01/01/2011 y el 30/03/2015</a:t>
            </a: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(Inc. 31 del Art. 1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2 CuadroTexto"/>
          <p:cNvSpPr/>
          <p:nvPr/>
        </p:nvSpPr>
        <p:spPr>
          <a:xfrm>
            <a:off x="2195640" y="981000"/>
            <a:ext cx="374472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70c0"/>
                </a:solidFill>
                <a:latin typeface="Verdana"/>
              </a:rPr>
              <a:t>CUPOS ESTABLEC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2 CuadroTexto"/>
          <p:cNvSpPr/>
          <p:nvPr/>
        </p:nvSpPr>
        <p:spPr>
          <a:xfrm>
            <a:off x="1857240" y="1913040"/>
            <a:ext cx="4515120" cy="2838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ostulantes del Art. 1º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1.600 cupos en el año 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950 cupos en el año 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Postulantes del Art. 14.-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100 cupos año 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100 cupos año 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2 CuadroTexto"/>
          <p:cNvSpPr/>
          <p:nvPr/>
        </p:nvSpPr>
        <p:spPr>
          <a:xfrm>
            <a:off x="2195640" y="763560"/>
            <a:ext cx="4464000" cy="398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BENEFICIOS ESTABLEC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3 CuadroTexto"/>
          <p:cNvSpPr/>
          <p:nvPr/>
        </p:nvSpPr>
        <p:spPr>
          <a:xfrm>
            <a:off x="1116000" y="1773360"/>
            <a:ext cx="6970680" cy="4057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Bonificación por retiro voluntario equivalente a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un mes de remuneración por cada año de servicio con un máximo de seis meses. (Art. 5º, inc. 1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Bonificación por retiro complementaria equivalente a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un mes de remuneración por cada año de servicio con un máximo de cinco meses previo acuerdo del Concejo. (Art. 5º Inc. 2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Bonificación adicional equivalente a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395 UF. (Art. 7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Bono especial equivalente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100 unidades de fomento a funcionarios de los escalafones de Directivos, Jefatura y Profesionales. (Art. Tercero transitorio Ley Nº 20.62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alibri"/>
              </a:rPr>
              <a:t>Bono especial por trabajos pesados equivalente a </a:t>
            </a:r>
            <a:r>
              <a:rPr b="1" lang="es-ES" sz="2000" spc="-1" strike="noStrike">
                <a:solidFill>
                  <a:srgbClr val="ffffff"/>
                </a:solidFill>
                <a:latin typeface="Calibri"/>
              </a:rPr>
              <a:t>10 UF por cada año de desempeño efectivo de trabajo pesado con un tope de 100 UF. (Inc. 4º, Art. 32.- Ley Nº 20.64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763280" y="907560"/>
            <a:ext cx="5545080" cy="5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REQUISITOS ESPECIALES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1476360" y="2060280"/>
            <a:ext cx="5975280" cy="3824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Para obtener la bonificación adicional se requiere un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mínimo de 10 años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 de servicios continuos o discontinuos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Para obtener bono especial para trabajos pesados se debe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acreditar cotización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sobre los años considerados de trabajo pesado 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 algn="just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Respecto de Bono Especial se debe cumplir con: tener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10 años de servicios continuos o discontinuos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, estar calificados en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lista 1 ó 2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y presentación de un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informe con actividades </a:t>
            </a:r>
            <a:r>
              <a:rPr b="0" lang="es-ES" sz="2000" spc="-1" strike="noStrike">
                <a:solidFill>
                  <a:srgbClr val="595959"/>
                </a:solidFill>
                <a:latin typeface="Calibri"/>
              </a:rPr>
              <a:t>realizadas en los 12 últimos meses en conjunto con un </a:t>
            </a:r>
            <a:r>
              <a:rPr b="1" lang="es-ES" sz="2000" spc="-1" strike="noStrike">
                <a:solidFill>
                  <a:srgbClr val="595959"/>
                </a:solidFill>
                <a:latin typeface="Calibri"/>
              </a:rPr>
              <a:t>manual de sus funciones.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59595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763640" y="1125000"/>
            <a:ext cx="5832720" cy="530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6cb7"/>
                </a:solidFill>
                <a:latin typeface="Verdana"/>
              </a:rPr>
              <a:t>2.- POSTULACIONES Y  SELECCION </a:t>
            </a:r>
            <a:endParaRPr b="0" lang="en-US" sz="2400" spc="-1" strike="noStrike">
              <a:solidFill>
                <a:srgbClr val="006cb7"/>
              </a:solidFill>
              <a:latin typeface="Verdana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1402920" y="2349000"/>
            <a:ext cx="6264360" cy="3095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PERIODOS POSTULACIONE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CL" sz="2000" spc="-1" strike="noStrike">
                <a:solidFill>
                  <a:srgbClr val="0070c0"/>
                </a:solidFill>
                <a:latin typeface="Verdana"/>
              </a:rPr>
              <a:t>OPORTUNIDAD DE POSTULACIONE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ACCIONES DE LAS MUNICIPALIDADES EN EL PROCESO DE POSTULACION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Verdana"/>
              </a:rPr>
              <a:t>SELECCIÓN DE BENEFICIARIOS</a:t>
            </a:r>
            <a:endParaRPr b="0" lang="en-US" sz="2000" spc="-1" strike="noStrike">
              <a:solidFill>
                <a:srgbClr val="595959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9:44:20Z</dcterms:created>
  <dc:creator>Executive Director</dc:creator>
  <dc:description/>
  <dc:language>en-US</dc:language>
  <cp:lastModifiedBy>USUARIO</cp:lastModifiedBy>
  <dcterms:modified xsi:type="dcterms:W3CDTF">2013-03-05T16:33:24Z</dcterms:modified>
  <cp:revision>87</cp:revision>
  <dc:subject/>
  <dc:title>Slide 1</dc:title>
</cp:coreProperties>
</file>