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0BF6E-35C2-47AE-AEB1-E9590F1EB6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0D1C4-AFE5-4CC3-9CE4-5913976103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68E045-4D90-45D8-A2DB-6BF1F9FB9F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D6E83-7747-4002-A666-1F1D00910B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C01F15-2771-40F5-AC68-6A3BBDEF97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B828A-5FD4-4B87-B538-7F0FF2FFC76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D63643-EB01-48A2-A1C7-309D0FF5A8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B5832-FACB-4B16-8379-E4D47F9530D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827C03-50DA-43DA-8582-40392D3053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DDB4E-08AC-48DD-B3DD-10CA0449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11089-0F35-4DC1-8500-131B4D6E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052BC-3C06-44BC-BC52-73C94EAF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AB978-341D-4CD8-B798-5367C73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972D7-62E3-4FAC-86D9-2FBC8E93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CEF08-BDB6-4800-890B-26FAC20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CFBACB-5B13-417E-9CD6-AE12C48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B7BB9-0CB2-43C0-9E47-044C064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0C96D2-56B9-4872-B0B3-8E33D8E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540760-5E58-4301-81E1-7CB16896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4955CF-5F9E-4DDB-A8CB-B8011929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73E77-09C1-4A7F-BBD7-7C3CFA4E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C4687-22C3-435A-9F19-7F7FB2CB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FD6B9-F45A-4351-8938-25D4DE3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0C6AA-0948-4E65-B61D-1424BEF7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E5857-EDC2-492D-AAB7-89A1E49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B814C-5A5A-40F4-8FB7-CA49573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B99F0-F8CE-402B-B9CF-56573B2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ADC79-5D2D-420A-9530-25B7AA3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23FBD-9FE9-4CEB-9B0B-7C31A98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E443E-1FFE-46DC-83D7-16AF805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877F-4201-4C83-8210-EF767553DD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33FCF-A343-4DCD-93BC-B597CFC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96C40-F30B-4E85-91FE-FD7865D8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BF6EA-1231-466D-966A-5DAB7FF2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C0111-A1B9-44E3-972F-4517199A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75DE8-D769-477D-B8D7-65323C1C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10AEB-52D7-4127-B198-002FB3C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191A5-4839-4B21-89D9-E57DA363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0D1B8-6EE9-4BD1-BC4A-1FC36F9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2E60E-DE81-4D56-8BD7-FF6196C4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86C7E-0967-4CA8-8899-D581204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1B4E-7856-4673-BE8C-300B469F64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40045-DDB8-4ECA-BB77-5ECBF29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589FE-CFBE-4E79-AAB1-6ABE545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FE60A-3454-4E48-90C3-7BBB34C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AE909-C98E-4E27-8FF6-6FAAC94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806CA-532C-4DB7-AE88-F1928CB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92F8A-889F-4E7C-BC85-9B2DD2E0FC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9A496-D0AE-48A4-A1F7-7B52C0E6DBC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DBF58-CFDC-4B9F-83E9-BE5728553E7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62138-7B59-4B5B-BD30-75D0C1469BF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9016D-258A-4A09-87EF-958BDED601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5084-2209-49CF-AB78-EA58141C43A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7A04-0589-4F59-AEF2-608CA0CA7C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880AB-B1E5-4DD8-918D-E9D58C7A4C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D6098-2F7B-4E87-8221-74A5D3E459E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09ED0-EE61-4EC4-BF5A-AA457E9764B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0B04-A20C-41A6-9C75-D40809237B7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6B42E-42FB-43EA-952C-4A6F281D15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BDCBA-AC01-4E3A-9DD2-52A8BE17B32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916EF0-9F56-433A-BBB2-0788E3E969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5A5B61-979F-4DEA-B3CC-2D8AFAF91CD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0B613-203D-4F5E-8986-F74CE6ACA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3390-6E15-45FE-955B-D053CD13835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B04236-287A-4D4B-A55D-4A98E3A0C15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F938F9-4E5F-4843-8724-3F28AB640C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9BA3ED-D0D1-42E2-B678-271B3A27B1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E2343-8BFB-4823-8679-16A5FF9B43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699CB0-767C-4F91-8BC8-9C0C3C06FD0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82C2DC-B0E2-461B-835C-4210C77E6C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20D4E-54CF-44B7-B698-B6C2632FE96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5127A9-CDE1-4427-8718-10A34551B4E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BBE7D3-89E1-4883-986A-F2C9F713CF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6AFB2-FA59-423F-9AA1-1B0BA3A027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D98C-6F5D-447C-B81A-0F94E6EE14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C5CE1-0F39-4D1D-B2E9-8D7723B7088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AEB0D-FEA9-465E-9294-6DEBE961C6A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478F2-43C0-45A3-B40E-6CEC1EFA9FC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FBA7A-FBE3-4680-8178-FE1215739A6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46F3B-CFC3-4298-9951-AF1883E1A6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A8188-5818-44FC-9812-3ECDEBD9C1E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F0033-A7C7-4724-95F1-570E6EC69E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EB729-1F09-446A-9A6F-1C6DC08ADD2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7FA44-97B7-45E1-A9C0-8B38B1B68C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76180-6AB5-47A4-A9A1-6F64252EAC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EC79-2D1A-4CE6-AB52-FD48F685335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FB754-D18A-462D-B974-FC41EF59BF9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CD9A3-FFF3-4690-8085-9BDE57163B4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370DD-9352-469E-B665-3A80FF32801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0E83B-005B-48DA-93E7-EDA0D88C3F4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16A93-DB2D-49E2-9569-89663356B99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F12B-783C-4FFD-A1B4-A62B78F6B6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F6E0C-5A66-4196-BB60-9979E86EC5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D1F2A-DB0C-423C-90DC-BAEA59C991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1F524-69B2-4708-BC23-CDF604EAA5D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8B27-0A54-4946-AFFF-3CBD5FE95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D546-13A0-489D-9CBE-C28773D6005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BF89E-EB81-41E9-828F-887D26AC4E3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44524-E089-4C77-B807-A029304F57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0952C-35E1-4F12-92B9-316C33F206D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B42238-6146-408E-A876-31F281FA6C0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544CAB-AA3B-40FD-A5C9-4EAEC474E78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9F02B-69EC-4077-AA62-1E6488C7CF9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A83D1-5A4D-44C5-A353-8A924969620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72E26A-9E6D-4FF9-974A-2C3E28E6D87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7877CF-7505-466A-8E91-CD73352F03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A3CAF7-BE84-4582-9CB6-C45D874A3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5881-E61C-48EE-9CBC-15685EAC6A5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5B16E-9CA8-45E3-A68C-CB61ACAB269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F46DA-CA64-4AE9-9912-F8C586519B9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9F9D4-7590-495F-BC36-3378A1555BE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7C74B8-0531-4785-A15A-E2BBB2E437C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C4C84B-02D6-4823-B336-B56E09DC9AB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8E6CBB-13BA-4B14-9E85-3DC422F8F70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205E6E-9F66-42F9-9956-4823FC3FC74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C3B22B-F0AD-4A39-A078-719B2D6970A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D70971-6F2E-436B-9B97-F9031A60ABA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9562F6-3AA9-4C1E-BA6A-32BF80B90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0746-8742-428D-A1D3-307236AAAA5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FFA1A0-AF16-4C03-B9C6-F48A562E990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18E665-23E5-42B5-9ED7-066DCDD4C46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266B1A-0C70-4734-BC45-F141E92E083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100EB6-B75C-4075-866B-18931212F05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43665D-6B4A-4FDD-975A-4662A27F472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868424-98B2-42DF-8F52-9931BE46C66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923A32-688B-4769-9E41-6A9579BEFC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571866-FF04-415C-8A15-E31C2666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45E422-66AB-4C9D-9573-02A002A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91F92C-F65E-4744-AD00-2588DF18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13EB-B913-4C38-92CA-29293A2F3B1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1417CC-EFE6-4B09-B33C-A7CA75A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3BE614-813C-4B5D-84AE-AD41D10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3FDC1B-8CE7-4B5F-8124-5437748A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B9A34D-D7D3-4CA8-A01C-9B229F8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2E27B3-AC4A-41CA-A41A-BD437DA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7F3624-2F92-4007-A689-9F70376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42E622-AF4F-4E8A-BF5E-457EED9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FB1242-229B-44E1-93AF-E33045C9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754F7E-CC29-4D83-A791-911DED6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06DFE9-0C56-4F9B-98F5-1278CDA1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B161-9AF8-4E1F-BAB5-9A05E1489F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9820CA-5792-43AA-AEF8-88B59F96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A4B60C-13FD-4547-9B35-832831CF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9A2721-A54E-4187-99C3-3CD8928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E95A69-761E-42BD-BBB4-AB23994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586185-2444-4F09-ABAB-FFDDF49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C55128-8062-4130-B086-12EC05A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1DEA7F-9574-4D66-A07C-2C5D065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A42A95-3F99-4429-B0AF-C7204F9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B75631-FAE7-4680-97AD-F55ED56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CD0E0E-733F-4CFB-A8CC-4B2CC812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D8D9-D787-4379-A845-AF71598D3F2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739A8A-48AB-4A1F-BA11-47AD036F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7A8CAA-04A9-44B9-BBF5-448A140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B5E534-A99B-4086-A3AC-ED3C218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FB5462-9567-4468-935A-2EC02798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D78FD1-DBEB-42B0-89D4-0A5C1B02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A763FA-55B4-49C1-B18E-54BDAADB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168562-BA18-4F6D-8B32-EE9293D9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DCDA3FF-259B-451E-A425-C79A8FA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BCDF07-D5C0-4797-8606-C1DC9B6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CDFFF5-79B3-4507-8933-7D85825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AE747E-CECD-4F1D-8E45-5194B37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0A6116-8195-4451-973F-5DE31752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B8AEF4-99BD-4C04-9364-BF3C458A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F0945D-7323-42C9-8844-7C4274F2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DB8CA4-289A-4605-89A6-EA81FDC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CB8B8F-FE0B-4120-A67B-11392AF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0DC041-9EFB-4EDB-96F5-69F60FE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A66382-1C17-452E-B560-5877F8B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C25FD6-932B-4171-A3A4-67956531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9F6260-9DBE-4CCF-82F8-FC87CDE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D1FD52-862B-4A4D-840A-5F741B6B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03A2EA-AD23-4726-8381-D636BD1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31432C-386B-4B5D-87B4-1862EF4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D79770-83DB-4CEE-A600-47EC5574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C41FD3-DEB0-4221-A60B-E20ABFB5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7B83D1-F19C-444B-8146-9E731984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7EB078-7F40-469C-BAA2-83CFACE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CD4916-EEA0-476D-9F72-ACBFFC25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D49E6B-2AAE-4142-869C-8C822C8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6D66EE-1272-4794-9FD5-B43582AF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621DF4-277E-4D77-84B5-8CCBAEBD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91D97A-D00A-4547-BD13-D5E56FE7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DF075A-3240-4C0B-A899-7DB10AA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492EEE-B7AA-4E99-A910-1C539DE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B42183-44D8-499B-B200-130D5FBE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BD41C3-5561-429F-B95E-C386368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4E1117-FEE2-4E16-A0BF-7B3706F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70524B-921E-4C1A-A66B-81A45A1D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47593B-A897-4BB8-A451-592E5746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F613B1-48AE-4998-B567-F879D34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0228AD-83DF-4008-B30A-C4C8F866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7D7407-EAA1-4D99-A2FD-15B01A7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EA57A7-E34C-45F8-8D9F-9EA932D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A9F8CC-27AB-4AE3-B872-13D8F7F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DFCFC7-9CB0-4D6F-B9C0-39F1116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517927-B6A0-4002-BA74-07325F2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63BEE2-7E07-43B2-B081-059C56B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CB26AA-F793-4FD6-AC97-B0A50C15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6E0037-01A3-423B-A51D-857F2BC6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9944B7-71E2-48A8-986C-6F67898E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316B54-AD89-4851-8C73-447B300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1DFF46-A925-4BDC-B098-34CB2FE5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351CAE-7280-46A2-B078-05BC86F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2468C0D-7134-4D74-A889-39570813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E306D6-BFA6-4F90-BB22-D2A3EBA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5EF430-4A6E-4114-AD76-D3384F8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0C3FCD-9B6B-41F1-BAB5-310F5EA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2471E1-FFE3-4909-A5CC-8581F99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503D4E-40B4-457E-B80A-2A86292E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5D4F6C-CB41-4A93-81D6-01E6A518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66B6B6-CF32-49C7-B979-AEFAC197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1CA182-3DFD-41D6-9820-A3FBE901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533528-6FD1-44AC-B99C-B924266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64C125-7B99-4F41-95AC-E97E568F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AC1B118-7F56-455B-ACB7-1BA6E7F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509557-AB6A-451B-9A24-CE0B041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26890D-4081-485D-A0C4-44D5E516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DA1AA3-2C9E-4CD6-BECA-0FA91BF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3D7992-D793-4C21-8B22-D2B5662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C730F5-0556-48BE-9FED-D80CE048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C11143-2B7D-4B2C-8521-DE8C348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4957B3-E5E5-44AC-BB33-AA3DF212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8C2E13-2031-4300-915C-4D61D813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65EF76-ECEF-4391-A10B-B09FA2F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037257-F2F9-432E-B73D-1EFFA6C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CAE26C8-77DB-415B-A7E0-575CDFF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358912-8644-44ED-B4F4-91E4E572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910BCFE-B894-41D2-8AF6-FF1214E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3CD299-E110-441E-B1BA-EFE17A9D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B84B65B-F6C8-45B0-A29D-EF6B543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B9C46E-816E-4DEA-85E1-BF0BD41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159532-FFF2-45D6-8A9B-EEEFCEF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373BE8-D62F-4818-995F-6DB882F1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FDB493-72E2-4EF5-8572-F2907289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E05854-CAFA-45B0-9658-66E280D4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93051A-C139-4B43-9146-CAC15EDF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38377F-E6BE-4632-A0C2-DE73552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4B12B8-1376-42D3-86F9-1C98496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1C2890-93E5-4D50-A9E9-0318575C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ACA086-A219-465D-A01A-36863A1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EB2891-0939-4FD2-ABBA-74563DD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658DC9-7685-499B-B2E6-D1878BED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1BCD281-37D3-43AE-B5D2-6D77BA8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816708-657B-48A3-9835-70276B3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169D4E-A625-49C0-8584-E7DA6C5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F85EB4-15E2-4FC4-977A-D01DBD1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CD3F25-B508-406A-9F8C-1F664EA1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7FF963-0E6E-4EE7-BF4E-B88BF43D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96FCC21-996A-47AA-9A67-A435694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D348CF-D46E-4459-9256-F40B5AF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4DB911-E878-4723-BA26-66C37DB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250202-3377-43CE-BA11-0B5AAC8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AA572D9-9D05-4172-9CB8-37BD16E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81F2F8-3BA5-4FEA-A01E-630E9D6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DDA0DA-C041-4586-9BCD-04FB0C7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E6AE58-C355-4BBF-B36B-839CB55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384FE21-7CBB-43E4-8660-D3D1F89B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A161141-DC27-4FC8-A221-CD653DF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E02C3B-2787-468E-8657-3DDD69FD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7C39-4AE3-4918-8CB3-F3F6CC25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306F1-B1F9-4892-83DB-7A7F194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253F9-A993-4AD5-9CE9-AB7A9253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920F-4F35-42DE-84BD-F67D49E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24545-E803-46DE-9FE6-C6D36B6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15F68-25B2-465D-A5C0-1E914630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C1EF-46DF-4BF6-B57D-ED8206F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53759-273F-4696-A0B9-390ADA7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4BED2-FB41-4AE3-A2FC-1FAE15F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4DB3-1885-4082-A0FB-E399ABC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C8CD-0AEA-47D9-9D27-86C19AC7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140E-6F24-46BD-9B29-D16B86FF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CABEB-91B9-4B27-ACA4-DA3F3B3D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66A08-721B-403E-9FA4-3C26405E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43D8B-CFD8-4B48-9C88-3D0EE24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E97C-4AE8-4F01-B92A-A544E400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DB6C7-E0FE-419B-85A7-8C9733E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020AE-5FDA-4599-A5C9-5F0A89F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FBC2E-5EC6-40AD-90CA-F7DC281F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20795-F900-4EBB-B9C8-811D023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3E123-CF05-4273-A62F-07AEA73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09F60-331B-4306-874F-5F7D755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9F627-421F-45D5-AA18-AD7A479C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422DE-67F1-4D6F-96B8-8D78AD6B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A0E0C-DBBD-4EC3-A37D-DE59339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7BD75-418E-4D45-9EB5-85FF37A5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4F1D8-886B-4C2A-95F0-B4F19989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D20BD-158C-4B02-9494-D00ADA7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9FBB8-CACE-478C-8ED2-C32B9A1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59DB5-A08E-419F-BE29-9DBE4559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330AE-5CD0-4153-9609-DABDD1C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ACE1-E2E1-4B6D-AD77-AACEA37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C5CEA-38AE-42F2-B3E9-5D33282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9D7CF-C4B6-400A-A3B5-BBFB7D3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F4E45-0099-4E40-BEBB-21470E2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FB1D4-2B93-4284-85FA-B0FA34FA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AB22A-1DA3-4386-9CAE-CAE4750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BF6B2-EBCF-4B88-9CFD-11AEC48A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38FB2-9D68-4770-B587-9673FDB2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F586-0082-4521-8AB1-E2382A42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840E8-9A37-4BD3-A374-D2FB15B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840B2-55B6-4010-A2C7-AC27915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EE908-D1B2-41DD-A56E-396865B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17513-DC86-41B3-98F4-9D6D56A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9E66E-3AC8-4241-9890-28C7B3B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FE9E4-B5B7-4281-9DA0-F166A48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4FEC0-7B29-4435-810C-875671EE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28144-716C-4F51-916C-41DD05D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7D4A9-EADA-43AC-9265-BD1B54B7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5A219-63BB-49A1-A042-D9C9FC7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03406-9555-4F11-946A-9A5D571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68323-D202-4E51-843A-3FF80A3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1622E-89D0-4EC7-B5D3-4B6B8B69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7B050-F801-49F6-9246-30327B7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C9B65-8C4A-4F69-90CE-436151B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45435-DCE2-444C-9CE7-7D0FC53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74802-AA4F-43B3-847B-9BE1F43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BE1A5-F248-4C27-A7D1-422FC68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AE427-12D7-44B1-98F4-2A15284B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82DDA-176E-42A6-B42B-29153861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A9A19-3C5E-4918-906A-C2AFE0D2BE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A9351-20DF-41CF-B113-9AD5544FB0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D3DB7B-E9FB-4D09-A13B-F59C2A1C4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BC7D2-7A54-4C9A-86EA-B2440EF35BB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575A6-7570-422D-9AC1-6009C93ADD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3C500-C67A-4AC5-BF05-9EF9E2DD287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36FE3-182C-41CB-8E6E-4FE00D5AB0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9356D-7296-429D-B0E8-25FC30622E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D0D4B-44AF-421D-AEB0-9628354FC9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BE973-D25B-4DF1-B93C-61D676AFDB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DCDF9-2ECC-4F33-A59C-D1A6047688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0089D-60DF-4779-B967-4D7C10CA0C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27C5B-46FE-4A57-9FA0-D16DC7239A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26BFF-9EB1-4332-A54D-256B86EB2D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28D8C-16E8-4530-A5BF-B74B08731D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0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80B11-C31F-4326-A6B7-03BF6CB7FFB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8C3B5-E73A-497C-9055-9F23A947DEB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1D111-50AE-4F3A-AC36-71F18ECE93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5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1067E-6C74-44E5-AAA0-199A6FB2CCF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0462-325C-4176-9B00-34A65647571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0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FCF6E-0C76-4513-A53A-572E4E3899C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DBCA0-0195-459F-AD6A-DCE6B2644E5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5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30F76-29AA-489E-965E-2C8F7ADEAE5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52F0B-87B2-4024-BC7A-DB8A4B367A9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0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60EBA-B386-49B7-B4F8-4B0489BB511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386EB-17E6-48D8-A377-FB479640014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3FC5-FFDE-4832-8BD6-EB8A75F166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02E5D-A452-4944-851A-B99816AC405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0AF84-933B-455C-98EA-96BF95AD4E7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89660-832E-4017-A48F-8792A15D621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E80AE-2A0F-45E6-91FF-9B0A73D65A2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81F36-C40B-446E-9EF3-52C16F51D5E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9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6978A-78E4-4011-9406-7E512495AB9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320A1-F5A8-4F0B-A14A-551DA4F3531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9763E-1006-4EAB-83DB-2251E6E3AB0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039F2-CB3A-4611-8E90-338BFFE8395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9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B5A9B-761F-4FEC-99FD-8D5B1407A78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D847C-4242-4BB1-9D44-3B6E5FD74EB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1113F-7B6B-42C2-8E93-25FE7AB725B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C6D68-2BAB-4BB2-B3BC-8C63891C653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95E02-C57E-4F5F-BE53-42BDA96FC90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5BCD2-CECD-4EE6-946A-384DDC3868D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33734-79DD-4E6B-BAC9-9F33B269C43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46628-248D-4563-A4CD-E0E544B4FE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0EF49-B40A-4C72-A303-5DB4CEA69CE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272E9-719C-41C5-8057-3A997EB3B91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83793-AC9E-4BA3-8EE6-107E2C3F2DA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272BB-BA2B-4247-98E1-F6A59F0C40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AA29B-21A0-4EAA-8EE2-4A10DF5E506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7488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APLICACIÓN LEY Nº 20.649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RETIRO VOLUNTARIO FUNCIONARIOS MUNICIP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2 CuadroTexto"/>
          <p:cNvSpPr/>
          <p:nvPr/>
        </p:nvSpPr>
        <p:spPr>
          <a:xfrm>
            <a:off x="1979640" y="1793880"/>
            <a:ext cx="4105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POSTU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2 CuadroTexto"/>
          <p:cNvSpPr/>
          <p:nvPr/>
        </p:nvSpPr>
        <p:spPr>
          <a:xfrm>
            <a:off x="1398600" y="2997360"/>
            <a:ext cx="562140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rimer periodo: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imer trimestre del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gundo periodo: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imer trimestre del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1 CuadroTexto"/>
          <p:cNvSpPr/>
          <p:nvPr/>
        </p:nvSpPr>
        <p:spPr>
          <a:xfrm>
            <a:off x="1116000" y="4917960"/>
            <a:ext cx="655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IMPORTANTE:  no se presenta la renuncia al momento de post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59436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OPORTUNIDAD DE POSTULACION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1" name="3 CuadroTexto"/>
          <p:cNvSpPr/>
          <p:nvPr/>
        </p:nvSpPr>
        <p:spPr>
          <a:xfrm>
            <a:off x="1457280" y="2157480"/>
            <a:ext cx="6192720" cy="436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desd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/1/2011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3,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postulan en el primer o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4 y el 30/06/2014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desd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/1/2011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3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primer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4 y el 30/06/2014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 y 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ieron la edad antes d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0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cualquier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2 CuadroTexto"/>
          <p:cNvSpPr/>
          <p:nvPr/>
        </p:nvSpPr>
        <p:spPr>
          <a:xfrm>
            <a:off x="1763640" y="549360"/>
            <a:ext cx="61930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ACCIONES DE LAS MUNICIPALIDADES EN EL PROCESO DE POS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3 CuadroTexto"/>
          <p:cNvGrpSpPr/>
          <p:nvPr/>
        </p:nvGrpSpPr>
        <p:grpSpPr>
          <a:xfrm>
            <a:off x="969840" y="1554120"/>
            <a:ext cx="7491600" cy="4582080"/>
            <a:chOff x="969840" y="1554120"/>
            <a:chExt cx="7491600" cy="4582080"/>
          </a:xfrm>
        </p:grpSpPr>
        <p:pic>
          <p:nvPicPr>
            <p:cNvPr id="1364" name="3 CuadroTexto" descr=""/>
            <p:cNvPicPr/>
            <p:nvPr/>
          </p:nvPicPr>
          <p:blipFill>
            <a:blip r:embed="rId1"/>
            <a:stretch/>
          </p:blipFill>
          <p:spPr>
            <a:xfrm>
              <a:off x="969840" y="1554120"/>
              <a:ext cx="749160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1187280" y="1773360"/>
              <a:ext cx="7056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Notificar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a los funcionarios que cumplan el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requisito de edad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Recibi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las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solicitudes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de retiro voluntario y del bono post laboral ,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entregando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copias con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nstanci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 recep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municar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en un plazo de 5 días la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falta de algún antecedente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munic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en un plazo de 5 días que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no se cumple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con los requisitos para postular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Tramit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el acuerdo del Concejo para otorgar la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bonificación por retiro complementari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 hasta 5 mese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Ingres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los datos de los postulantes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a la página del SINIM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a mas tardar a los 15 días de cerrado cada periodo de postul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Envi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a la SUBDERE el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ertificado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l Secretario Municipal en formato digital y formato físico con detalle de postulante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618920" y="744480"/>
            <a:ext cx="624204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SELECCIÓN DE BENEFICIARI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7" name="3 CuadroTexto"/>
          <p:cNvSpPr/>
          <p:nvPr/>
        </p:nvSpPr>
        <p:spPr>
          <a:xfrm>
            <a:off x="1258920" y="1773360"/>
            <a:ext cx="6842160" cy="405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n el evento de que el número de postulantes supere al número de cupos, la selección se efectuará de la siguiente manera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l total de cupo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distribuirá entre damas y varones en l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porción de postulantes de cada género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n cada grupo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privilegiará a los postulantes d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edad y menor r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 existir empate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elegirá al postulante co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antigüedad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n el munici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 persistir la igualda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se usará l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antigüedad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n la administración municip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l mantenerse el empate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seleccionará por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orden alfabético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según los apell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6264360" cy="7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3.- CESE DE FUNCIONES, PAGOS Y OTROS ASPECT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1402920" y="2349360"/>
            <a:ext cx="6264360" cy="360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Verdana"/>
              </a:rPr>
              <a:t>PLAZOS PARA CESE DE FUN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ACCIONES DE LAS MUNICIPALIDADES EN EL PROCESO  PREVIO AL PAGO DE LOS BENEFIC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ROHIBI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FINANCIAMIENT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OPORTUNIDAD DEL PAG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759640" cy="87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PLAZOS PARA CESE DE FUNCIONES DE LOS BENEFICIAD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826920" y="1844640"/>
            <a:ext cx="7777440" cy="410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hasta el 31/12/2010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, deben cesar hasta los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90 días después de dictada la resolució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e los nomina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los años 2011 o 201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aron en el primer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4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que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los años 2011 o 201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aron en el segundo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3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en en el primer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diciembre de 2014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que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3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en en el segundo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4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849240" y="765000"/>
            <a:ext cx="7732800" cy="8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ACCIONES DE LAS MUNICIPALIDADES EN EL PROCESO PREVIO AL PAGO DE LOS BENEFICIOS</a:t>
            </a: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468360" y="1773360"/>
            <a:ext cx="8424720" cy="45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Notific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los interesados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resultados de su postulació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ntro de los 5 días siguientes a la publicación de la resolución que nomina a los beneficiado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Inform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quienes resultaron beneficiados el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plazo que tienen para cesar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en funcione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Solicit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los beneficiados que presenten su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renuncia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conforme a la fecha de cese que estimen conveniente, en un plazo no superior a 15 días contados desde la notificación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Ingres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datos de beneficiados al sitio habilitado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 la página WEB del SINIM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ntro de los 10 días siguientes al término del plazo para presentar las renuncia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vi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certificado del Secretario Municipal con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datos de los beneficiarios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e indicando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que se pedirá o no el anticipo del Fondo Común Municipal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vi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en los primeros 5 días de cada mes, a partir de la remisión del certificado antes señalado,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los decretos de cese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 los beneficiarios que dejaron de prestar servicio en el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es inmediatamente anterior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Tramitar el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post labora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339640" y="836280"/>
            <a:ext cx="381636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PROHIBICION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971280" y="1700280"/>
            <a:ext cx="7358040" cy="367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Beneficiarios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99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No podrá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ser nombrados ni contratados asimilados a grado o sobre la base de honorarios en establecimientos de salud públicos, municipales, corporaciones o entidades administradoras, ni municipalidades, y en general, en cualquier institución que conforma la administración del Estado, durante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cinco años siguientes al término de su relación laboral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Municipios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99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Sólo podrá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stinar los fondos transferidos en virtud de la ley al pago de la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bonificaciones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contempladas en el cuerpo legal. La no destinación de los fondos a los señalados fines será sancionada de acuerdo a la escala de penas establecidas en el artículo 233 del Código Penal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266560" y="855360"/>
            <a:ext cx="4249800" cy="46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FINANCIAMIENT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042560" y="1773000"/>
            <a:ext cx="7489800" cy="3816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argo fiscal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adicional d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95 UF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especial por trabajos pesados equivalente a 10 UF por cada año de trabajo pesado ,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con tope de 100 UF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argo Municipal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por retiro voluntario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áximo de seis mese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 remunera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por retiro complementaria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áximo de cinco mese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remunera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especial equivalent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100 UF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a funcionarios de los escalafones de Directivos, Jefatura y Profesional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979640" y="728280"/>
            <a:ext cx="439272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OPORTUNIDAD DE PAG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00000" y="1988640"/>
            <a:ext cx="6912000" cy="331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1.-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Las bonificaciones de cargo municipal se deben pagar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inmediatamente después del cese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 funciones. (Art. 6º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En el caso de que solicite financiamiento del Fondo Comú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unicipal el pago de las bonificaciones por retiro voluntario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r retiro complementaria  se efectuará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una vez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transferidos los recursos de dicho fondo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2.-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La bonificaciones de cargo fiscal se pagarán una vez que se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tramite la resolución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la SUBDERE que determina lo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ontos a transferir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843280" y="1226880"/>
            <a:ext cx="312408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TEMARI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1042560" y="2492280"/>
            <a:ext cx="7201080" cy="19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1.-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REQUISITOS Y BENEFIC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2.- 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OSTULACIONES Y SELECCIÓ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3.- 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CESE DE FUNCIONES, PAGOS Y  OTROS ASPECT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78469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racias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1 CuadroTexto"/>
          <p:cNvSpPr/>
          <p:nvPr/>
        </p:nvSpPr>
        <p:spPr>
          <a:xfrm>
            <a:off x="726120" y="4797360"/>
            <a:ext cx="53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tiro.voluntario@subdere.gov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908000" y="1125000"/>
            <a:ext cx="5400720" cy="530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1.- REQUISITOS Y BENEFICI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1402920" y="2349000"/>
            <a:ext cx="6264360" cy="280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ERIODO EN QUE DEBEN CUMPLIRSE LAS EDADES 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CUPOS ESTABLECID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BENEFICIOS ESTABLECID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REQUISITOS ESPECIAL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8 CuadroTexto"/>
          <p:cNvSpPr/>
          <p:nvPr/>
        </p:nvSpPr>
        <p:spPr>
          <a:xfrm>
            <a:off x="2556000" y="777960"/>
            <a:ext cx="4103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1 CuadroTexto"/>
          <p:cNvSpPr/>
          <p:nvPr/>
        </p:nvSpPr>
        <p:spPr>
          <a:xfrm>
            <a:off x="1476360" y="2133720"/>
            <a:ext cx="6120000" cy="2228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stablece un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onificación por retiro voluntario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ara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funcionarios municipale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egidos por el Título II del decreto ley N° 3.551, de 1980, y por la ley N°18.883, que fija el Estatuto Administrativo de los Funcionarios Municipales, que cumpla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60 años de edad si son mujeres o 65 años de edad si son hombre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y cesen en sus cargos por aceptación de renuncia volunt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1 CuadroTexto"/>
          <p:cNvSpPr/>
          <p:nvPr/>
        </p:nvSpPr>
        <p:spPr>
          <a:xfrm>
            <a:off x="1979640" y="1052640"/>
            <a:ext cx="49687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PERIODO EN QUE DEBEN CUMPLIRSE LAS EDA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3 CuadroTexto"/>
          <p:cNvSpPr/>
          <p:nvPr/>
        </p:nvSpPr>
        <p:spPr>
          <a:xfrm>
            <a:off x="1666800" y="2637000"/>
            <a:ext cx="5904000" cy="314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umplan o hayan cumplido las edades citadas entr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l 01/01/2011 y el 30/06/2014 (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Hayan cumplido las edades mencionadas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0 (Art. 14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crediten trabajos pesado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ara rebajar las edades antes señaladas (Inc. 2º del 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Quienes acrediten cese por: pensión de invalidez, salud irrecuperable o salud incompatible, deben cumplir las edades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1 y el 30/03/2015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(Inc. 31 del 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2 CuadroTexto"/>
          <p:cNvSpPr/>
          <p:nvPr/>
        </p:nvSpPr>
        <p:spPr>
          <a:xfrm>
            <a:off x="2195640" y="981000"/>
            <a:ext cx="37447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CUPOS ESTABLEC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2 CuadroTexto"/>
          <p:cNvSpPr/>
          <p:nvPr/>
        </p:nvSpPr>
        <p:spPr>
          <a:xfrm>
            <a:off x="1857240" y="1913040"/>
            <a:ext cx="4515120" cy="283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ostulantes del Art. 1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.600 cupos en el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950 cupos en el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ostulantes del Art. 14.-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cupos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cupos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2 CuadroTexto"/>
          <p:cNvSpPr/>
          <p:nvPr/>
        </p:nvSpPr>
        <p:spPr>
          <a:xfrm>
            <a:off x="2195640" y="763560"/>
            <a:ext cx="4464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BENEFICIOS ESTABLEC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3 CuadroTexto"/>
          <p:cNvSpPr/>
          <p:nvPr/>
        </p:nvSpPr>
        <p:spPr>
          <a:xfrm>
            <a:off x="1116000" y="1773360"/>
            <a:ext cx="6970680" cy="405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por retiro voluntario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un mes de remuneración por cada año de servicio con un máximo de seis meses. (Art. 5º, inc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por retiro complementaria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un mes de remuneración por cada año de servicio con un máximo de cinco meses previo acuerdo del Concejo. (Art. 5º Inc. 2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adicional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95 UF. (Art. 7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o especial equivalent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unidades de fomento a funcionarios de los escalafones de Directivos, Jefatura y Profesionales. (Art. Tercero transitorio Ley Nº 20.62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o especial por trabajos pesados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 UF por cada año de desempeño efectivo de trabajo pesado con un tope de 100 UF. (Inc. 4º, Art. 32.- Ley Nº 20.64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763280" y="907560"/>
            <a:ext cx="5545080" cy="5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REQUISITOS ESPECIAL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1476360" y="2060280"/>
            <a:ext cx="5975280" cy="38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Para obtener la bonificación adicional se requiere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ínimo de 10 año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servicios continuos o discontinuo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Para obtener bono especial para trabajos pesados se deb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acreditar cotizació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sobre los años considerados de trabajo pesado 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Respecto de Bono Especial se debe cumplir con: tener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10 años de servicios continuos o discontinuo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, estar calificados e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lista 1 ó 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resentación de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informe con actividade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realizadas en los 12 últimos meses en conjunto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anual de sus fun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5832720" cy="530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2.- POSTULACIONES Y  SELECCION 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402920" y="2349000"/>
            <a:ext cx="6264360" cy="30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ERIODOS POSTULA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Verdana"/>
              </a:rPr>
              <a:t>OPORTUNIDAD DE POSTULA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ACCIONES DE LAS MUNICIPALIDADES EN EL PROCESO DE POSTULACIO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SELECCIÓN DE BENEFICIAR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USUARIO</cp:lastModifiedBy>
  <dcterms:modified xsi:type="dcterms:W3CDTF">2013-03-05T16:33:24Z</dcterms:modified>
  <cp:revision>87</cp:revision>
  <dc:subject/>
  <dc:title>Slide 1</dc:title>
</cp:coreProperties>
</file>