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7"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89D75-D665-4BA0-8251-60ABBC77E01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0"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1"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0EC1F-841C-4C61-9105-1B6AF49C73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161C1-F1F1-470A-A4B7-6E1D799CA8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270D93-5C5C-4F96-91C0-0A5FA16233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DC52AD-DEDE-42E5-AEFE-52885DE049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7563C3-2F00-493E-9867-5639E3659E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D72A77-928D-4CBB-89C8-9792F7EECD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7E6726-827C-4051-A9B8-7B49FF9F08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D47628-93A5-46F0-BCAA-5E07122B85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A2C728-1BFA-4DE6-A554-94F47720A9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18DE074-32FE-4642-9AD8-A28C83D2E3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555AEC0-F176-483B-B345-3915D8350B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C8ED5B1-7CBA-450A-B069-9EC80861C33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1500F9-39B9-41BD-8077-228AAA303B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03340C5-51D7-4742-853F-3B324FEE5C2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8FFFDFB-6540-48F7-904A-FD191A501E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1B34D3-E101-41E3-A92D-12F336D4F3E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D6996D-6062-4521-9399-BBC0DD36D06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FF649B-4153-4BAE-9893-7EF1F2D030F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F766C3-7A81-4DE9-AFE8-4357DA6108E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8ADA48-40BD-4642-A9FC-7F3092F4923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7ADC0EE-B1BA-4F05-A0B0-7B762A7AFC2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B0BA563-F63A-402F-B23A-8BEB91915D1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5F8BB7D-907F-461B-811E-2A7B887FFE7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0249829-C847-42CE-8F35-21EB2AB0CB4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8B2E25A-F6BC-48CC-93FF-6B45D0BD05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DDDA808-E3C7-409C-8504-FF49FA154CB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D05DB4-7464-4349-8CE7-DD60B39A0BD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ABA9742-6901-4945-9220-F0EB46F9DA9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294F0B1-02C6-4A69-A9D1-6FD29ACB0AC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9159FA1-66A7-4A40-A087-D8AE2269F73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DC9FEE-E398-41BA-974E-16403A00BD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EFA306-447B-4C0A-A84E-EB7A9EC5A0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C466E1-09ED-4BD1-80DD-348ABA08F54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E4AE4EB-841C-4595-A500-4D507E17871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F7E3B25-6501-49DA-92A3-78974B456A4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7636689-83C5-4DD5-8EB1-AD6EA8633DD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7B835CF-9E77-48D8-9B84-DCEE1CE9D74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B2C2033-BA70-453E-8F58-BF6689CB16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B5FF0A4-DA81-4F84-8A74-BB30D15050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F1FAAA0-CB74-469E-AF69-169424CC0D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C88C08B-3D2F-45CE-8A7E-C8D60495D6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F5B8B14-9BA6-4834-B3A7-CEBF3CDA53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F3CF6D-0F99-40AB-92C9-84865CAF81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A64A60-C591-482E-9ACA-12CA5B0E1E0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1D026DB-F272-4E3D-A62E-8AC349550E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674BB1-979C-4809-AC67-327FEC9AED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038A28F-9124-4063-A497-36172A0338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C7875D0-32AB-41E1-84FC-69E09C41F86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CBD1A43-16CA-426B-8A71-907FC09A7BB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E3EC47-027F-4FC7-BBC4-4E770034B9D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F06707-DB8B-4A09-A971-9ED8DC6B0B8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02AC62-3816-446E-9D94-50A3A93F6DE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CDA13E-98A7-4D1A-A59F-CA8AFF64894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8D5EFF-CAAD-4E05-AB4D-EB1A7DD6DA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622E8A-8FD9-4ECC-8CE7-F8A0E6B1928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88236C-745B-4043-A2B7-BA2C84C2834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49A124-B79F-47CC-9EC1-6E464D2A1A2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55DF8E-B2D9-4EF2-9BFB-A17836F03D4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4AF643-B0CC-4F82-BED7-DE040848E5E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D8B73B-0669-4849-B4F6-9546D54A2FE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C39AEE-448E-4403-8579-AE8C59F64CE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7A7CCD-2A16-4057-9D1C-CA6ACA0782E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E9C7C59-13E2-41F6-BA96-0E7F6454968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980B84-62D1-4A86-949C-B31B7C23AC5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5AB662C-D8C0-4A6E-A2D8-7452EADC57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A9B37-B7B9-4769-A13C-F797CF07431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6222CB1-94FC-40BF-86B8-745AB1CE5AE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4FFF167-A290-4FA6-A06C-D41EAE885FC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C4A58FC-28BE-48AA-9C3D-D6AF1B0BDDC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2707454-B282-4F4D-9C18-DB2F9430EE0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C8E3A3-3358-45B2-8A00-7EDC670FA14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E6D4B2-812D-4E2D-B363-0092FA956BE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292153D-A706-4421-A32A-97BBA402584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5953549-DD5C-495D-B917-55DBD4505DC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34C1F0C-6E7B-4385-B512-79FB8722BE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E23550F-7006-4774-A4AD-12F9A6FFB4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F8C49-5838-428B-B677-A98DFBBDB20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F9D14A3-3CAE-4C5C-B392-E76ABFD6F90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AA166E8-D773-4FC9-A3A2-ECEEA1B7451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36F8423-88E7-4BF8-9140-A5A5A618B3F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A5F58F1-E101-4460-9282-30C96773505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BE8481A-8C86-4B13-892F-C09C01BF343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10DD6ED-7B06-4D8D-B3DE-E28ABDB2751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166BA0C-8407-46D3-9FA6-68488BEDE61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14253A1-10BA-4C72-ADE1-884E1EE0914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A2E7879-1B67-4BA7-94AE-E62DF0F9204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04FD97B-1293-4762-AF96-B9ED3429A7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C9002F-6BA4-4605-ACDA-7B8FD2B550F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FF20A4E-6DA4-4380-BDA7-6BE0A296CC7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DE5C5E-3B07-4B76-90D0-D52AA796923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708B01-5AA4-4F6D-BCC6-DDC98DFCA88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29B443-4A13-4C69-A9BF-7E226D9DE0D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495F7E-FD1B-4469-80B7-F4AF5BD4D4A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06FD5-87C1-4417-8C28-48D67C11917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C98DCB-EDA2-4457-A462-F55F2F38844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5BCA88-1593-4B2B-BDB7-4636F069037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0B082E-4547-4237-96BF-CC7995B9DD0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A1FAE-7536-4FFE-A9CF-F8826395A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6A6CF-F266-4928-A8B6-85FD48EA537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39BBD2-8992-4D37-B77E-8A90B7AE0C8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89EF79-0C64-4A19-884B-6DB39C7849A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B7C91E-E330-4D1F-AD41-7048C0DDE0C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B12EB42-2AD2-464A-B5B1-D3C74AB8BD6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5098AAE-0D25-41DE-8CC8-1C602F26916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923F1A5-BACF-4EEE-87C8-E41E741B0D9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3D88B63-2966-49F8-BBE4-FBF80945775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23E7E33-582E-484A-A8B2-E4E6D0DFE64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E4E51DD-D956-47F9-A84C-87973B49749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988DB93-79F8-4C3A-8CA5-F08287F5C7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A1796-852C-42BF-9997-921F3CFD761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FD9354E-78FD-4F93-9182-BD22EB61AC5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B61A175-B067-4BC1-A3E3-B80CB4F4764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9FF5AEA-7D23-4AFB-A38C-2979AE5D500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84F7E90-D717-4956-8D73-371C03A9D89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28DD25D-07F9-4781-A2ED-57674B93FF0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69711EB-1E8E-40DF-839A-DF5450FCFEB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DD386D9-2999-4E98-97E2-4516084E9CA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641B5EF-A7AA-488B-958A-569A9A3A016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A9C19F1-E733-46A9-BF3D-76644632C54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D7FB767-D661-4B79-AF7A-E8BCE553D0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ADB17-23CD-4433-B4F1-BD224DC9824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726CB6D-C44B-4242-A66A-AC24EE9FB5B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68DE0A5-5DDE-4FC2-830D-7F1E265053F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160C515-7704-481E-A857-6B85004835B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10953A2-7E56-43D0-966D-DF63289B8FA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A9669C6-A963-4DA8-8105-0B51E663F0B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DDE704D-3A19-41C8-A11F-45793AB5C80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B19958E-A140-4720-8F35-3706873F999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E4AD6A7-8092-43FE-90B1-3326219FDE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026BFFE-209C-4ED6-8EA9-0E9D9BB073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F831EAE-DACD-4B5C-8657-96ED330A8D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1A97D1-2BA9-4199-B881-C77252F4860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A55225B-9FFE-4520-B910-12DFAC10A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789E9DD-661D-4214-9B7B-3D78317743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F809A0F-CE3E-470A-A10B-1A59F2A3BE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6B0DE2E-4484-41C2-AA83-D6B277714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259020C-5A65-4E1C-A7B3-5D2D5AE68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D78C8A2-9742-498B-AD4D-B21C3CA0F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4B0CBD7-881D-4194-B97F-97C2844682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E1BA41F-30C1-47A9-AC8B-45EE2CC18C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A6B6BC04-CEEA-490E-A2BD-46F5E4BD07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D17D24B-214C-4921-9094-8DA33C4393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1024CD-125A-491B-8EA4-BC3E23CB243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A18A559-C69E-4437-A34C-37A22EC039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4EAFCCB-63BA-4AC4-9DC7-97E9B4EB73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6154AA7-77D0-48FB-9322-3802090EAB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0E53694-1A02-4563-A50E-C4AF8A2784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CCDE016-4F2B-4859-A4D9-8B47F155B8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1BBDAE2-A7E2-44FB-B703-9437E7787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1A5F542-EDD6-47EC-B182-C8F834AE4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C0DD9FD-5DC9-4850-8626-9A58539E95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1DB28B-8907-4AAE-BEE4-4CF6D304D6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C9B43A3-9C62-4C4C-B15C-91E9E6084D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613310-6919-4ECA-A863-4A44D50F822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CD1EED9-38CF-40A0-A1A0-3FD8C24975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D466D88-5A03-44BA-916F-FDD76D6B7B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FDE210D-504B-4562-936A-DAA1661D1B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6B48FD9-7AC9-42EA-BF94-BFF1A2B14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2B53E52-2EC0-4D7B-9332-15B4524BB2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36F0417-9346-42E8-93B1-8287C19E04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F7CD568-F6E7-491C-99CB-7D5AF20BA7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AADFDAB-6731-4611-BF1F-BF6B938D54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85F6298-0627-415F-8DC5-7DFC442A81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2A940D4-ADE4-4CC4-B699-5DC008529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1A4E6A6-F1AE-4D3A-8B7D-947A369C0F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BF5B20B-C1F5-4D1C-8E76-881A08F933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59B3B0E-6BB8-4D50-BFC5-FF6FDCD8D1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CE606AE9-535F-4DB5-B3E8-E91B538C3A8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F5D4F16-F879-46EF-B5F3-CD20C4A31FE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9D8C9CB-5CAA-4231-B30C-DA946476858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599DC2C-2F18-400F-9274-797BCB8D3E4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0313616-7CD3-4ABA-8AB7-D3ED5DDD876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2F57BBD-0AC0-48A1-A87C-B223B8E533C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4F4FE44-4D43-4265-B2CF-DCCCC5B1BAD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DC29773-B62A-4BD5-8AE4-04C3B4B8D60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056FF90-5EA2-4E1E-AA28-92DE9073F56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2BEF61E-7836-4498-873D-61925792BF4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6FD5A82-252E-4DCC-BF97-BD511262B15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464BAA8-4DA6-4F41-8BDC-FD938D3BC09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A52BB3D-713C-491E-B024-43D2EDA41D0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6A73E9B-DAB5-4D47-92D5-3E95ED520C1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B8FEFA0-E59C-432A-8A8B-844F05DA656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A440D24-7AC8-4A78-85FB-639D123479A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54025CC-1140-4364-829A-F17AB3DC4B0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F5D37DA-2C5D-4938-9DB8-10235F6B6E9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722B4C5-6B20-4E85-923F-D016B1B90BF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F78F137-C2C8-4DC7-81E1-A12CACEDA84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F50A2E8-9B04-4C18-B900-62EFB957876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202B974-0ECB-4D4B-9A8E-83EB81F4199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874D535-8A2A-4E52-A6F5-919ADEB265D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863DDF5-F6BB-4137-B2D9-D285D20F5B9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36FF552-7D11-4BA3-B399-027EFBC5C6C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E0920D2-D1D4-4707-9CB0-6662D46460D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32729DD-339D-43A0-9144-BBC559E34B7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6D4BB01-5BC8-4A8D-A588-977EFFEAAC9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CA69065-E1A2-4247-841F-D882FBE8A8D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205C4EA-01CE-45FD-A53F-13A9F491D12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FD2D27C-8314-4D3F-8DF6-160750743E2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DEA9BB8-C688-4166-A932-AC421828C8D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4A1A330-FB7F-4420-B66B-D0EFBF581B8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6B89C1A-DF5F-4314-84E6-7E0E7A1CCF6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A3FEEE2-C4AD-492C-83CE-B1268BE61BE3}"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07288D1-0EC7-4CCC-9E7D-7D895722D575}"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AAAFBFFD-C103-4E28-A21C-BE428FFD540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1870FE7-E699-4832-B9E9-B58FF5489CE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ECE6BBE-201B-4CC3-ADEF-D0C1949E67E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23F01F0-857B-4004-8684-8FABAFF33BF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5B21460-52DB-444B-A58B-E98CE8F6EB2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F0767CA-F31D-4AB2-BEC5-BD8709FBA3C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803BE84-AC89-4CB1-ABA7-B13A622D51D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1A2EC42-257D-447C-8E30-4F4CE3388C8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5241975-7E27-4772-9FFA-07C9DF6B1D1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C469294-21EA-477C-88FD-61367F968A6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98629BA-5A5C-4451-B6A4-45CB382F519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5EE44B6-D959-446E-ABB4-CCB2F652DFFF}"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0D14431-02B3-461D-8CE6-F02D75C4221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C0CA3E3-0FD9-4791-98AE-78CE3BEE9CC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8A924AC-C88A-412A-9F04-4C812FBC74E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5017DF1-339D-41F9-9462-39888F0F5ED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B5E6347-A4B8-4D9B-8C40-60F14C7C335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0F296BF-09D2-4DB3-A437-05371EF4408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7F2E557-0DF8-4610-A688-E4D65F8F4FB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36A950A-1F5A-46D4-95E5-CCC6FF3D3D3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310C68F-126A-498A-B801-D6C1221EB68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1C8B4E1-3634-43F3-BA86-5D480FC7229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371C8D74-7416-4499-B716-13847716C85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5035E17-A5FF-4225-9457-CF4C824F83F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C6CAFD9-3475-4E0A-9409-6EC9C4DD2F8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3DD1E28-F92F-42C8-AA1B-53AAFB335B7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510FB9A-4430-48EF-87BD-39B117FBDC6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187DBCC-2A33-424D-8475-A39E30AC979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0CE81FD-FE00-4720-A6CC-26C5ABFA811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9A4AB7E-D390-4FDC-A6AC-B9A78AFD42F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F0AE7D6-793B-42B4-9492-021D122CFC4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890E01F-9589-4BD6-8394-0FAADF9D092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BF95D83-D0D5-4CBE-B8C8-C705A99786C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1EA3A96-5C36-4778-A661-81CFADBF080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C3DB32B-FC78-4B4E-A792-321D289B05D4}"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DD225AD6-2B8F-427B-925E-595BC405319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E728D227-C5F0-4D25-AD8C-184CC66CF9A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AE7C58D-238C-4389-8299-903AC5BF58B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11C0FB8-C4BD-4892-B1FA-87EE9C8AEE7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2FBAE29-6A97-4517-9E27-FBF9FFA3C9E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C45F68D-5A26-4719-8BC4-9FE71CD80A9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A6B2ECE-7994-4006-9DE6-9E0776BF347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8973A29-4849-4198-A621-F88599E9C46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B506BB3-B276-488B-A806-2E4D0882CFF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291C757-AF73-480E-9D6B-5C76DFDA24D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805ED32-6D71-4C81-BF01-29A89C1EBB2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92619E0-BA77-4E36-9C65-ABD9F6ABAF6E}"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3B03248A-B3DC-48C8-A00E-0D6DD34DC593}"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F855F3DB-F0E1-40FA-B1CE-C7A786ECB5CB}"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F479315-35DB-4B17-86EF-C0C765C435F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6DEB8F9-F94D-4BF7-87DE-3C2694D4076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A8CB17F-EFDD-407E-8C94-C65729A544A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A0318FA-5C04-4A1C-86F9-C44B1AFCA2E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2B59045-033B-4DDD-9F86-C9563498C5E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172886D-3A0D-485C-AFCA-1F1CDC51FE9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E6BAA30-64CE-4047-966F-FA9EEB788BC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29BFF6F-283E-4DFF-8ABD-1FAAF18C511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487C253-9473-4350-9E4C-6D30D7E65D7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89D1BDC6-B7A1-48C9-BC15-95FE7D614617}"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CA64527F-7112-4D73-80BF-5DC90393FAB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B491C9-BE32-4F17-A0AB-92883908F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06B5C-7F0D-480A-B61B-FA6114884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88B7A-FF3C-43BD-9CFA-62F8F7541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61E37-8F16-4EEE-9AF7-DEF9855B7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5684B-D0E6-4DDD-ABD4-EEF2C7BC5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CC757-6FB3-4773-82AC-B0206F3E3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C0C76-31BC-4065-8597-BE1F4ED5F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8C060-585B-440D-995F-2BA92B862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40767-89D4-4AE1-868B-F7A5FEED8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5A3B5-E365-4F60-8F7C-99599B136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79508E-18C9-4A47-9D02-DBB36FC693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C8C651-C708-4E82-8F67-EEC8570352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5BB443-9D80-4D07-83F9-45F10DA60F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C0704E-7F68-45FD-8B3A-E7EB40961B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AA3E1F-3CD1-4729-AFFA-24579ECD83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5FA2CA-5629-4A97-BE20-7D8DD0CB49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F40870-5D3D-4861-A756-DD9AC38572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1ED648-76C5-4EE1-AD90-CA801E2062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F93D23-58B1-4A38-9761-1EEC58E8D6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CDDF14-42EC-44DB-ACA9-C90421ED76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F03C9E-0CA9-4641-B84C-7296D6263F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31B7DB-838A-4619-9A85-1C8B66B2EE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66D51C-F793-4FC3-926E-07348B3A2B0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5A38E1-A079-4153-B217-09E13C1E24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BEE6A9-C071-4440-A570-0EA1EA714C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61D2FE-25A5-4685-8275-77A9514039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60B1E4-D6DB-4EE2-800D-9954DD1CB3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C66B15-47DA-464E-9B07-A5481A85E5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18D352-DD02-473B-9D14-B0087194DD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8BECCC-7ED4-49C3-8205-EA13273F9C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2F0C87-5AC8-449C-B11A-B230508A5A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62C6FD-5CA2-43F9-9699-BC3DEF91E3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3BB508-4599-49C4-8D4B-D00075DD02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A1166B-85F0-4724-9DA8-1A29590130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B051E5-A0F0-4F3A-B4F2-9DE0839655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E1666C-0CA5-4D75-A215-06EAD8B9B6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65AA13-6258-4E22-9936-6CD9F1FF20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9C90FD-A260-4ADB-8886-DD8C46359D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617985-AFFC-4300-A038-168F0829138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68C2D6-E17C-4394-A473-083F5554A5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AA8D58-441B-44F5-B0B4-DADB4E0E91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3D98F4-05FD-4DEE-B3BF-9E12B3D7E9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8B0B84-CA2D-4B6B-9900-9071F4B57F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F7DE5A-997D-4A70-B866-F6C72A92A7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4293A6-BBB4-4ADE-A7C7-FC68B0D80B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84F1F2-15F4-48D7-A72D-D8F91A47F9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1108E1E-7F0B-4927-890E-B7B281F5E52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C6668F-F00D-4266-B7F4-09302AFB54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09C6AA7-B8AA-4CE6-9EB0-447CD1A259C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45F1BC-106C-4814-8CD8-4971F5B08F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2B2FA6-A43F-48EE-91B5-145E99AF0B0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F52723-0A38-4A42-AAA4-F11BA401AC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D81259-6436-42B4-A08E-935CF7B297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D142A9-0F1B-4AC8-A466-7FA4AA783D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D7BEA5-1605-4785-AF50-B4E33430DD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B5423F-8CD7-4297-8850-6C10685C6F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F90C7C-7C8C-40E2-91F3-45021A01B4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22D108-0A63-4DE8-91F1-E82A6DC785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77ABEA0-3BFD-4590-932F-84D54B64068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D23930-4AF5-49EC-A23A-E5F7CC367A7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99337FF-1F77-4F57-9C9B-C9694C06D64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08B1B0B-37F0-42E1-A518-DB796A5C3A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3EF0286-278F-4769-9535-64CC97CCA0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sp>
        <p:nvSpPr>
          <p:cNvPr id="3"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 name="Picture 10" descr=""/>
          <p:cNvPicPr/>
          <p:nvPr/>
        </p:nvPicPr>
        <p:blipFill>
          <a:blip r:embed="rId3"/>
          <a:stretch/>
        </p:blipFill>
        <p:spPr>
          <a:xfrm>
            <a:off x="1676520" y="3578400"/>
            <a:ext cx="1157040" cy="384120"/>
          </a:xfrm>
          <a:prstGeom prst="rect">
            <a:avLst/>
          </a:prstGeom>
          <a:ln w="0">
            <a:noFill/>
          </a:ln>
        </p:spPr>
      </p:pic>
      <p:pic>
        <p:nvPicPr>
          <p:cNvPr id="6" name="Picture 11" descr=""/>
          <p:cNvPicPr/>
          <p:nvPr/>
        </p:nvPicPr>
        <p:blipFill>
          <a:blip r:embed="rId4"/>
          <a:stretch/>
        </p:blipFill>
        <p:spPr>
          <a:xfrm>
            <a:off x="1676520" y="6676920"/>
            <a:ext cx="1147680" cy="1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1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12"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E066B-65F8-4CAF-86ED-DA8D2468DD5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13"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4"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8143D-3660-4837-90DC-BB181436C5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5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A2B8D-AC7C-44B4-A0C8-65012E87138A}"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458"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9"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42D05-721F-4E50-9CCA-F9D89FA9AB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0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2"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3BA0F-11D9-4B46-85FD-191F57D5ACC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503"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4"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EF92F-84B2-4568-B25F-D0822494FE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4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47"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8"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EC52D-B25A-46B2-B007-51B123488C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91"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2"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5F84C-D062-40F0-AECE-3A715791098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3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35"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1117D-AB3E-4168-BD08-5C0FB35E501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9"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19034-EE36-44A9-BE40-B19D5031D20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2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23"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4"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425E2-D71C-4B49-8F7C-1C14AFF868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6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67"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8"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99EE4-4370-4C8A-B4C1-68AF9CDCED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6"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07" name="Group 11"/>
          <p:cNvGrpSpPr/>
          <p:nvPr/>
        </p:nvGrpSpPr>
        <p:grpSpPr>
          <a:xfrm>
            <a:off x="6934320" y="2058840"/>
            <a:ext cx="2209680" cy="2038320"/>
            <a:chOff x="6934320" y="2058840"/>
            <a:chExt cx="2209680" cy="2038320"/>
          </a:xfrm>
        </p:grpSpPr>
        <p:sp>
          <p:nvSpPr>
            <p:cNvPr id="808"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9"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10" name="Picture 1" descr=""/>
            <p:cNvPicPr/>
            <p:nvPr/>
          </p:nvPicPr>
          <p:blipFill>
            <a:blip r:embed="rId2"/>
            <a:stretch/>
          </p:blipFill>
          <p:spPr>
            <a:xfrm>
              <a:off x="7034040" y="2161800"/>
              <a:ext cx="696240" cy="508320"/>
            </a:xfrm>
            <a:prstGeom prst="rect">
              <a:avLst/>
            </a:prstGeom>
            <a:ln w="0">
              <a:noFill/>
            </a:ln>
          </p:spPr>
        </p:pic>
      </p:grpSp>
      <p:sp>
        <p:nvSpPr>
          <p:cNvPr id="811"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12" name="Picture 12" descr=""/>
          <p:cNvPicPr/>
          <p:nvPr/>
        </p:nvPicPr>
        <p:blipFill>
          <a:blip r:embed="rId3"/>
          <a:stretch/>
        </p:blipFill>
        <p:spPr>
          <a:xfrm>
            <a:off x="7924680" y="3933720"/>
            <a:ext cx="1148040" cy="104760"/>
          </a:xfrm>
          <a:prstGeom prst="rect">
            <a:avLst/>
          </a:prstGeom>
          <a:ln w="0">
            <a:noFill/>
          </a:ln>
        </p:spPr>
      </p:pic>
      <p:pic>
        <p:nvPicPr>
          <p:cNvPr id="813" name="Picture 13" descr=""/>
          <p:cNvPicPr/>
          <p:nvPr/>
        </p:nvPicPr>
        <p:blipFill>
          <a:blip r:embed="rId4"/>
          <a:stretch/>
        </p:blipFill>
        <p:spPr>
          <a:xfrm>
            <a:off x="7910640" y="2209680"/>
            <a:ext cx="1157040" cy="384120"/>
          </a:xfrm>
          <a:prstGeom prst="rect">
            <a:avLst/>
          </a:prstGeom>
          <a:ln w="0">
            <a:noFill/>
          </a:ln>
        </p:spPr>
      </p:pic>
      <p:sp>
        <p:nvSpPr>
          <p:cNvPr id="8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15"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0D5E1-D877-4105-9132-9E7D16F018F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16"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7"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993B3-966A-4B2A-9D75-3C30D9058C1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8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Dirección de Presupuestos</a:t>
            </a:r>
            <a:endParaRPr b="0" lang="en-US" sz="900" spc="-1" strike="noStrike">
              <a:solidFill>
                <a:srgbClr val="000000"/>
              </a:solidFill>
              <a:latin typeface="Times New Roman"/>
            </a:endParaRPr>
          </a:p>
        </p:txBody>
      </p:sp>
      <p:sp>
        <p:nvSpPr>
          <p:cNvPr id="46"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5F286-7909-4214-905D-DEB75CDB1EB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6"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57" name="Group 11"/>
          <p:cNvGrpSpPr/>
          <p:nvPr/>
        </p:nvGrpSpPr>
        <p:grpSpPr>
          <a:xfrm>
            <a:off x="6934320" y="2058840"/>
            <a:ext cx="2209680" cy="2038320"/>
            <a:chOff x="6934320" y="2058840"/>
            <a:chExt cx="2209680" cy="2038320"/>
          </a:xfrm>
        </p:grpSpPr>
        <p:sp>
          <p:nvSpPr>
            <p:cNvPr id="858"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9"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60" name="Picture 1" descr=""/>
            <p:cNvPicPr/>
            <p:nvPr/>
          </p:nvPicPr>
          <p:blipFill>
            <a:blip r:embed="rId2"/>
            <a:stretch/>
          </p:blipFill>
          <p:spPr>
            <a:xfrm>
              <a:off x="7034040" y="2161800"/>
              <a:ext cx="696240" cy="508320"/>
            </a:xfrm>
            <a:prstGeom prst="rect">
              <a:avLst/>
            </a:prstGeom>
            <a:ln w="0">
              <a:noFill/>
            </a:ln>
          </p:spPr>
        </p:pic>
      </p:grpSp>
      <p:sp>
        <p:nvSpPr>
          <p:cNvPr id="861"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62" name="Picture 12" descr=""/>
          <p:cNvPicPr/>
          <p:nvPr/>
        </p:nvPicPr>
        <p:blipFill>
          <a:blip r:embed="rId3"/>
          <a:stretch/>
        </p:blipFill>
        <p:spPr>
          <a:xfrm>
            <a:off x="7924680" y="3933720"/>
            <a:ext cx="1148040" cy="104760"/>
          </a:xfrm>
          <a:prstGeom prst="rect">
            <a:avLst/>
          </a:prstGeom>
          <a:ln w="0">
            <a:noFill/>
          </a:ln>
        </p:spPr>
      </p:pic>
      <p:pic>
        <p:nvPicPr>
          <p:cNvPr id="863" name="Picture 13" descr=""/>
          <p:cNvPicPr/>
          <p:nvPr/>
        </p:nvPicPr>
        <p:blipFill>
          <a:blip r:embed="rId4"/>
          <a:stretch/>
        </p:blipFill>
        <p:spPr>
          <a:xfrm>
            <a:off x="7910640" y="2209680"/>
            <a:ext cx="1157040" cy="384120"/>
          </a:xfrm>
          <a:prstGeom prst="rect">
            <a:avLst/>
          </a:prstGeom>
          <a:ln w="0">
            <a:noFill/>
          </a:ln>
        </p:spPr>
      </p:pic>
      <p:sp>
        <p:nvSpPr>
          <p:cNvPr id="8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65"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6E5AF-749A-4BE0-94A3-EDD8B772766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866"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7"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0637E-20FE-4659-BD49-02CFDEAADE2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5"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06" name="Group 11"/>
          <p:cNvGrpSpPr/>
          <p:nvPr/>
        </p:nvGrpSpPr>
        <p:grpSpPr>
          <a:xfrm>
            <a:off x="6934320" y="2058840"/>
            <a:ext cx="2209680" cy="2038320"/>
            <a:chOff x="6934320" y="2058840"/>
            <a:chExt cx="2209680" cy="2038320"/>
          </a:xfrm>
        </p:grpSpPr>
        <p:sp>
          <p:nvSpPr>
            <p:cNvPr id="907"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8"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9" name="Picture 1" descr=""/>
            <p:cNvPicPr/>
            <p:nvPr/>
          </p:nvPicPr>
          <p:blipFill>
            <a:blip r:embed="rId2"/>
            <a:stretch/>
          </p:blipFill>
          <p:spPr>
            <a:xfrm>
              <a:off x="7034040" y="2161800"/>
              <a:ext cx="696240" cy="508320"/>
            </a:xfrm>
            <a:prstGeom prst="rect">
              <a:avLst/>
            </a:prstGeom>
            <a:ln w="0">
              <a:noFill/>
            </a:ln>
          </p:spPr>
        </p:pic>
      </p:grpSp>
      <p:sp>
        <p:nvSpPr>
          <p:cNvPr id="910"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1" name="Picture 12" descr=""/>
          <p:cNvPicPr/>
          <p:nvPr/>
        </p:nvPicPr>
        <p:blipFill>
          <a:blip r:embed="rId3"/>
          <a:stretch/>
        </p:blipFill>
        <p:spPr>
          <a:xfrm>
            <a:off x="7924680" y="3933720"/>
            <a:ext cx="1148040" cy="104760"/>
          </a:xfrm>
          <a:prstGeom prst="rect">
            <a:avLst/>
          </a:prstGeom>
          <a:ln w="0">
            <a:noFill/>
          </a:ln>
        </p:spPr>
      </p:pic>
      <p:pic>
        <p:nvPicPr>
          <p:cNvPr id="912" name="Picture 13" descr=""/>
          <p:cNvPicPr/>
          <p:nvPr/>
        </p:nvPicPr>
        <p:blipFill>
          <a:blip r:embed="rId4"/>
          <a:stretch/>
        </p:blipFill>
        <p:spPr>
          <a:xfrm>
            <a:off x="7910640" y="2209680"/>
            <a:ext cx="1157040" cy="384120"/>
          </a:xfrm>
          <a:prstGeom prst="rect">
            <a:avLst/>
          </a:prstGeom>
          <a:ln w="0">
            <a:noFill/>
          </a:ln>
        </p:spPr>
      </p:pic>
      <p:sp>
        <p:nvSpPr>
          <p:cNvPr id="9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14"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B351A-1CE1-4ADD-823F-C0D6209EE8D9}"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915"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6"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49727-0CAE-46D3-8EF5-3862A3786D1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4"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55" name="Group 11"/>
          <p:cNvGrpSpPr/>
          <p:nvPr/>
        </p:nvGrpSpPr>
        <p:grpSpPr>
          <a:xfrm>
            <a:off x="6934320" y="2058840"/>
            <a:ext cx="2209680" cy="2038320"/>
            <a:chOff x="6934320" y="2058840"/>
            <a:chExt cx="2209680" cy="2038320"/>
          </a:xfrm>
        </p:grpSpPr>
        <p:sp>
          <p:nvSpPr>
            <p:cNvPr id="956"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7"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58" name="Picture 1" descr=""/>
            <p:cNvPicPr/>
            <p:nvPr/>
          </p:nvPicPr>
          <p:blipFill>
            <a:blip r:embed="rId2"/>
            <a:stretch/>
          </p:blipFill>
          <p:spPr>
            <a:xfrm>
              <a:off x="7034040" y="2161800"/>
              <a:ext cx="696240" cy="508320"/>
            </a:xfrm>
            <a:prstGeom prst="rect">
              <a:avLst/>
            </a:prstGeom>
            <a:ln w="0">
              <a:noFill/>
            </a:ln>
          </p:spPr>
        </p:pic>
      </p:grpSp>
      <p:sp>
        <p:nvSpPr>
          <p:cNvPr id="959"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60" name="Picture 12" descr=""/>
          <p:cNvPicPr/>
          <p:nvPr/>
        </p:nvPicPr>
        <p:blipFill>
          <a:blip r:embed="rId3"/>
          <a:stretch/>
        </p:blipFill>
        <p:spPr>
          <a:xfrm>
            <a:off x="7924680" y="3933720"/>
            <a:ext cx="1148040" cy="104760"/>
          </a:xfrm>
          <a:prstGeom prst="rect">
            <a:avLst/>
          </a:prstGeom>
          <a:ln w="0">
            <a:noFill/>
          </a:ln>
        </p:spPr>
      </p:pic>
      <p:pic>
        <p:nvPicPr>
          <p:cNvPr id="961" name="Picture 13" descr=""/>
          <p:cNvPicPr/>
          <p:nvPr/>
        </p:nvPicPr>
        <p:blipFill>
          <a:blip r:embed="rId4"/>
          <a:stretch/>
        </p:blipFill>
        <p:spPr>
          <a:xfrm>
            <a:off x="7910640" y="2209680"/>
            <a:ext cx="1157040" cy="384120"/>
          </a:xfrm>
          <a:prstGeom prst="rect">
            <a:avLst/>
          </a:prstGeom>
          <a:ln w="0">
            <a:noFill/>
          </a:ln>
        </p:spPr>
      </p:pic>
      <p:sp>
        <p:nvSpPr>
          <p:cNvPr id="9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63"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3B147-48CB-4FE0-8DA1-15075764145E}"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96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5"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D124F-E7B1-4048-9C94-3967590CC89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3"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04" name="Group 11"/>
          <p:cNvGrpSpPr/>
          <p:nvPr/>
        </p:nvGrpSpPr>
        <p:grpSpPr>
          <a:xfrm>
            <a:off x="6934320" y="2058840"/>
            <a:ext cx="2209680" cy="2038320"/>
            <a:chOff x="6934320" y="2058840"/>
            <a:chExt cx="2209680" cy="2038320"/>
          </a:xfrm>
        </p:grpSpPr>
        <p:sp>
          <p:nvSpPr>
            <p:cNvPr id="1005"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6"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07" name="Picture 1" descr=""/>
            <p:cNvPicPr/>
            <p:nvPr/>
          </p:nvPicPr>
          <p:blipFill>
            <a:blip r:embed="rId2"/>
            <a:stretch/>
          </p:blipFill>
          <p:spPr>
            <a:xfrm>
              <a:off x="7034040" y="2161800"/>
              <a:ext cx="696240" cy="508320"/>
            </a:xfrm>
            <a:prstGeom prst="rect">
              <a:avLst/>
            </a:prstGeom>
            <a:ln w="0">
              <a:noFill/>
            </a:ln>
          </p:spPr>
        </p:pic>
      </p:grpSp>
      <p:sp>
        <p:nvSpPr>
          <p:cNvPr id="1008"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09" name="Picture 12" descr=""/>
          <p:cNvPicPr/>
          <p:nvPr/>
        </p:nvPicPr>
        <p:blipFill>
          <a:blip r:embed="rId3"/>
          <a:stretch/>
        </p:blipFill>
        <p:spPr>
          <a:xfrm>
            <a:off x="7924680" y="3933720"/>
            <a:ext cx="1148040" cy="104760"/>
          </a:xfrm>
          <a:prstGeom prst="rect">
            <a:avLst/>
          </a:prstGeom>
          <a:ln w="0">
            <a:noFill/>
          </a:ln>
        </p:spPr>
      </p:pic>
      <p:pic>
        <p:nvPicPr>
          <p:cNvPr id="1010" name="Picture 13" descr=""/>
          <p:cNvPicPr/>
          <p:nvPr/>
        </p:nvPicPr>
        <p:blipFill>
          <a:blip r:embed="rId4"/>
          <a:stretch/>
        </p:blipFill>
        <p:spPr>
          <a:xfrm>
            <a:off x="7910640" y="2209680"/>
            <a:ext cx="1157040" cy="384120"/>
          </a:xfrm>
          <a:prstGeom prst="rect">
            <a:avLst/>
          </a:prstGeom>
          <a:ln w="0">
            <a:noFill/>
          </a:ln>
        </p:spPr>
      </p:pic>
      <p:sp>
        <p:nvSpPr>
          <p:cNvPr id="10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12"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25416-573E-4647-992B-DE313493A502}"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013"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4"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BFA98-D22A-4FF2-8ED9-ED238BA3BBB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2"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53" name="Group 11"/>
          <p:cNvGrpSpPr/>
          <p:nvPr/>
        </p:nvGrpSpPr>
        <p:grpSpPr>
          <a:xfrm>
            <a:off x="6934320" y="2058840"/>
            <a:ext cx="2209680" cy="2038320"/>
            <a:chOff x="6934320" y="2058840"/>
            <a:chExt cx="2209680" cy="2038320"/>
          </a:xfrm>
        </p:grpSpPr>
        <p:sp>
          <p:nvSpPr>
            <p:cNvPr id="1054"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5"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56" name="Picture 1" descr=""/>
            <p:cNvPicPr/>
            <p:nvPr/>
          </p:nvPicPr>
          <p:blipFill>
            <a:blip r:embed="rId2"/>
            <a:stretch/>
          </p:blipFill>
          <p:spPr>
            <a:xfrm>
              <a:off x="7034040" y="2161800"/>
              <a:ext cx="696240" cy="508320"/>
            </a:xfrm>
            <a:prstGeom prst="rect">
              <a:avLst/>
            </a:prstGeom>
            <a:ln w="0">
              <a:noFill/>
            </a:ln>
          </p:spPr>
        </p:pic>
      </p:grpSp>
      <p:sp>
        <p:nvSpPr>
          <p:cNvPr id="1057"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58" name="Picture 12" descr=""/>
          <p:cNvPicPr/>
          <p:nvPr/>
        </p:nvPicPr>
        <p:blipFill>
          <a:blip r:embed="rId3"/>
          <a:stretch/>
        </p:blipFill>
        <p:spPr>
          <a:xfrm>
            <a:off x="7924680" y="3933720"/>
            <a:ext cx="1148040" cy="104760"/>
          </a:xfrm>
          <a:prstGeom prst="rect">
            <a:avLst/>
          </a:prstGeom>
          <a:ln w="0">
            <a:noFill/>
          </a:ln>
        </p:spPr>
      </p:pic>
      <p:pic>
        <p:nvPicPr>
          <p:cNvPr id="1059" name="Picture 13" descr=""/>
          <p:cNvPicPr/>
          <p:nvPr/>
        </p:nvPicPr>
        <p:blipFill>
          <a:blip r:embed="rId4"/>
          <a:stretch/>
        </p:blipFill>
        <p:spPr>
          <a:xfrm>
            <a:off x="7910640" y="2209680"/>
            <a:ext cx="1157040" cy="384120"/>
          </a:xfrm>
          <a:prstGeom prst="rect">
            <a:avLst/>
          </a:prstGeom>
          <a:ln w="0">
            <a:noFill/>
          </a:ln>
        </p:spPr>
      </p:pic>
      <p:sp>
        <p:nvSpPr>
          <p:cNvPr id="10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61"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F73CD-FC1D-483B-A163-23ADB3E4680D}"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062"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3"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EC0D8-2819-4139-AAFB-352E38EA8A4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1"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02" name="Group 11"/>
          <p:cNvGrpSpPr/>
          <p:nvPr/>
        </p:nvGrpSpPr>
        <p:grpSpPr>
          <a:xfrm>
            <a:off x="6934320" y="2058840"/>
            <a:ext cx="2209680" cy="2038320"/>
            <a:chOff x="6934320" y="2058840"/>
            <a:chExt cx="2209680" cy="2038320"/>
          </a:xfrm>
        </p:grpSpPr>
        <p:sp>
          <p:nvSpPr>
            <p:cNvPr id="1103"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4"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5" name="Picture 1" descr=""/>
            <p:cNvPicPr/>
            <p:nvPr/>
          </p:nvPicPr>
          <p:blipFill>
            <a:blip r:embed="rId2"/>
            <a:stretch/>
          </p:blipFill>
          <p:spPr>
            <a:xfrm>
              <a:off x="7034040" y="2161800"/>
              <a:ext cx="696240" cy="508320"/>
            </a:xfrm>
            <a:prstGeom prst="rect">
              <a:avLst/>
            </a:prstGeom>
            <a:ln w="0">
              <a:noFill/>
            </a:ln>
          </p:spPr>
        </p:pic>
      </p:grpSp>
      <p:sp>
        <p:nvSpPr>
          <p:cNvPr id="1106"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7" name="Picture 12" descr=""/>
          <p:cNvPicPr/>
          <p:nvPr/>
        </p:nvPicPr>
        <p:blipFill>
          <a:blip r:embed="rId3"/>
          <a:stretch/>
        </p:blipFill>
        <p:spPr>
          <a:xfrm>
            <a:off x="7924680" y="3933720"/>
            <a:ext cx="1148040" cy="104760"/>
          </a:xfrm>
          <a:prstGeom prst="rect">
            <a:avLst/>
          </a:prstGeom>
          <a:ln w="0">
            <a:noFill/>
          </a:ln>
        </p:spPr>
      </p:pic>
      <p:pic>
        <p:nvPicPr>
          <p:cNvPr id="1108" name="Picture 13" descr=""/>
          <p:cNvPicPr/>
          <p:nvPr/>
        </p:nvPicPr>
        <p:blipFill>
          <a:blip r:embed="rId4"/>
          <a:stretch/>
        </p:blipFill>
        <p:spPr>
          <a:xfrm>
            <a:off x="7910640" y="2209680"/>
            <a:ext cx="1157040" cy="384120"/>
          </a:xfrm>
          <a:prstGeom prst="rect">
            <a:avLst/>
          </a:prstGeom>
          <a:ln w="0">
            <a:noFill/>
          </a:ln>
        </p:spPr>
      </p:pic>
      <p:sp>
        <p:nvSpPr>
          <p:cNvPr id="11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10"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5DDDB-CB73-4B67-9C96-FCEDED512413}"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111"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2"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97014-B986-46B8-8AE9-4F63065503E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0"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51" name="Group 11"/>
          <p:cNvGrpSpPr/>
          <p:nvPr/>
        </p:nvGrpSpPr>
        <p:grpSpPr>
          <a:xfrm>
            <a:off x="6934320" y="2058840"/>
            <a:ext cx="2209680" cy="2038320"/>
            <a:chOff x="6934320" y="2058840"/>
            <a:chExt cx="2209680" cy="2038320"/>
          </a:xfrm>
        </p:grpSpPr>
        <p:sp>
          <p:nvSpPr>
            <p:cNvPr id="1152"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3"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4" name="Picture 1" descr=""/>
            <p:cNvPicPr/>
            <p:nvPr/>
          </p:nvPicPr>
          <p:blipFill>
            <a:blip r:embed="rId2"/>
            <a:stretch/>
          </p:blipFill>
          <p:spPr>
            <a:xfrm>
              <a:off x="7034040" y="2161800"/>
              <a:ext cx="696240" cy="508320"/>
            </a:xfrm>
            <a:prstGeom prst="rect">
              <a:avLst/>
            </a:prstGeom>
            <a:ln w="0">
              <a:noFill/>
            </a:ln>
          </p:spPr>
        </p:pic>
      </p:grpSp>
      <p:sp>
        <p:nvSpPr>
          <p:cNvPr id="1155"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6" name="Picture 12" descr=""/>
          <p:cNvPicPr/>
          <p:nvPr/>
        </p:nvPicPr>
        <p:blipFill>
          <a:blip r:embed="rId3"/>
          <a:stretch/>
        </p:blipFill>
        <p:spPr>
          <a:xfrm>
            <a:off x="7924680" y="3933720"/>
            <a:ext cx="1148040" cy="104760"/>
          </a:xfrm>
          <a:prstGeom prst="rect">
            <a:avLst/>
          </a:prstGeom>
          <a:ln w="0">
            <a:noFill/>
          </a:ln>
        </p:spPr>
      </p:pic>
      <p:pic>
        <p:nvPicPr>
          <p:cNvPr id="1157" name="Picture 13" descr=""/>
          <p:cNvPicPr/>
          <p:nvPr/>
        </p:nvPicPr>
        <p:blipFill>
          <a:blip r:embed="rId4"/>
          <a:stretch/>
        </p:blipFill>
        <p:spPr>
          <a:xfrm>
            <a:off x="7910640" y="2209680"/>
            <a:ext cx="1157040" cy="384120"/>
          </a:xfrm>
          <a:prstGeom prst="rect">
            <a:avLst/>
          </a:prstGeom>
          <a:ln w="0">
            <a:noFill/>
          </a:ln>
        </p:spPr>
      </p:pic>
      <p:sp>
        <p:nvSpPr>
          <p:cNvPr id="11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9"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4BB83-5355-418A-8996-CC02F5DE047B}"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160"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1"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CCDE3-F845-4716-AD6E-51C0C71447F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9"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00" name="Group 11"/>
          <p:cNvGrpSpPr/>
          <p:nvPr/>
        </p:nvGrpSpPr>
        <p:grpSpPr>
          <a:xfrm>
            <a:off x="6934320" y="2058840"/>
            <a:ext cx="2209680" cy="2038320"/>
            <a:chOff x="6934320" y="2058840"/>
            <a:chExt cx="2209680" cy="2038320"/>
          </a:xfrm>
        </p:grpSpPr>
        <p:sp>
          <p:nvSpPr>
            <p:cNvPr id="1201"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2"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03" name="Picture 1" descr=""/>
            <p:cNvPicPr/>
            <p:nvPr/>
          </p:nvPicPr>
          <p:blipFill>
            <a:blip r:embed="rId2"/>
            <a:stretch/>
          </p:blipFill>
          <p:spPr>
            <a:xfrm>
              <a:off x="7034040" y="2161800"/>
              <a:ext cx="696240" cy="508320"/>
            </a:xfrm>
            <a:prstGeom prst="rect">
              <a:avLst/>
            </a:prstGeom>
            <a:ln w="0">
              <a:noFill/>
            </a:ln>
          </p:spPr>
        </p:pic>
      </p:grpSp>
      <p:sp>
        <p:nvSpPr>
          <p:cNvPr id="1204"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05" name="Picture 12" descr=""/>
          <p:cNvPicPr/>
          <p:nvPr/>
        </p:nvPicPr>
        <p:blipFill>
          <a:blip r:embed="rId3"/>
          <a:stretch/>
        </p:blipFill>
        <p:spPr>
          <a:xfrm>
            <a:off x="7924680" y="3933720"/>
            <a:ext cx="1148040" cy="104760"/>
          </a:xfrm>
          <a:prstGeom prst="rect">
            <a:avLst/>
          </a:prstGeom>
          <a:ln w="0">
            <a:noFill/>
          </a:ln>
        </p:spPr>
      </p:pic>
      <p:pic>
        <p:nvPicPr>
          <p:cNvPr id="1206" name="Picture 13" descr=""/>
          <p:cNvPicPr/>
          <p:nvPr/>
        </p:nvPicPr>
        <p:blipFill>
          <a:blip r:embed="rId4"/>
          <a:stretch/>
        </p:blipFill>
        <p:spPr>
          <a:xfrm>
            <a:off x="7910640" y="2209680"/>
            <a:ext cx="1157040" cy="384120"/>
          </a:xfrm>
          <a:prstGeom prst="rect">
            <a:avLst/>
          </a:prstGeom>
          <a:ln w="0">
            <a:noFill/>
          </a:ln>
        </p:spPr>
      </p:pic>
      <p:sp>
        <p:nvSpPr>
          <p:cNvPr id="120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08"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C5203-997A-465E-93DE-7D40FC06B3A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09"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0"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E7398-5F82-4A1D-86E7-538B7D79FC4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8"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49" name="Group 11"/>
          <p:cNvGrpSpPr/>
          <p:nvPr/>
        </p:nvGrpSpPr>
        <p:grpSpPr>
          <a:xfrm>
            <a:off x="6934320" y="2058840"/>
            <a:ext cx="2209680" cy="2038320"/>
            <a:chOff x="6934320" y="2058840"/>
            <a:chExt cx="2209680" cy="2038320"/>
          </a:xfrm>
        </p:grpSpPr>
        <p:sp>
          <p:nvSpPr>
            <p:cNvPr id="1250"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1"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52" name="Picture 1" descr=""/>
            <p:cNvPicPr/>
            <p:nvPr/>
          </p:nvPicPr>
          <p:blipFill>
            <a:blip r:embed="rId2"/>
            <a:stretch/>
          </p:blipFill>
          <p:spPr>
            <a:xfrm>
              <a:off x="7034040" y="2161800"/>
              <a:ext cx="696240" cy="508320"/>
            </a:xfrm>
            <a:prstGeom prst="rect">
              <a:avLst/>
            </a:prstGeom>
            <a:ln w="0">
              <a:noFill/>
            </a:ln>
          </p:spPr>
        </p:pic>
      </p:grpSp>
      <p:sp>
        <p:nvSpPr>
          <p:cNvPr id="1253"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54" name="Picture 12" descr=""/>
          <p:cNvPicPr/>
          <p:nvPr/>
        </p:nvPicPr>
        <p:blipFill>
          <a:blip r:embed="rId3"/>
          <a:stretch/>
        </p:blipFill>
        <p:spPr>
          <a:xfrm>
            <a:off x="7924680" y="3933720"/>
            <a:ext cx="1148040" cy="104760"/>
          </a:xfrm>
          <a:prstGeom prst="rect">
            <a:avLst/>
          </a:prstGeom>
          <a:ln w="0">
            <a:noFill/>
          </a:ln>
        </p:spPr>
      </p:pic>
      <p:pic>
        <p:nvPicPr>
          <p:cNvPr id="1255" name="Picture 13" descr=""/>
          <p:cNvPicPr/>
          <p:nvPr/>
        </p:nvPicPr>
        <p:blipFill>
          <a:blip r:embed="rId4"/>
          <a:stretch/>
        </p:blipFill>
        <p:spPr>
          <a:xfrm>
            <a:off x="7910640" y="2209680"/>
            <a:ext cx="1157040" cy="384120"/>
          </a:xfrm>
          <a:prstGeom prst="rect">
            <a:avLst/>
          </a:prstGeom>
          <a:ln w="0">
            <a:noFill/>
          </a:ln>
        </p:spPr>
      </p:pic>
      <p:sp>
        <p:nvSpPr>
          <p:cNvPr id="12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57"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5178D-5F9E-413C-A9E2-C0BE2B8273CA}"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258"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9"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4959E-CDDF-43CE-85F6-03F84A2D641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7"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98" name="Group 11"/>
          <p:cNvGrpSpPr/>
          <p:nvPr/>
        </p:nvGrpSpPr>
        <p:grpSpPr>
          <a:xfrm>
            <a:off x="6934320" y="2058840"/>
            <a:ext cx="2209680" cy="2038320"/>
            <a:chOff x="6934320" y="2058840"/>
            <a:chExt cx="2209680" cy="2038320"/>
          </a:xfrm>
        </p:grpSpPr>
        <p:sp>
          <p:nvSpPr>
            <p:cNvPr id="1299"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0"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01" name="Picture 1" descr=""/>
            <p:cNvPicPr/>
            <p:nvPr/>
          </p:nvPicPr>
          <p:blipFill>
            <a:blip r:embed="rId2"/>
            <a:stretch/>
          </p:blipFill>
          <p:spPr>
            <a:xfrm>
              <a:off x="7034040" y="2161800"/>
              <a:ext cx="696240" cy="508320"/>
            </a:xfrm>
            <a:prstGeom prst="rect">
              <a:avLst/>
            </a:prstGeom>
            <a:ln w="0">
              <a:noFill/>
            </a:ln>
          </p:spPr>
        </p:pic>
      </p:grpSp>
      <p:sp>
        <p:nvSpPr>
          <p:cNvPr id="1302"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03" name="Picture 12" descr=""/>
          <p:cNvPicPr/>
          <p:nvPr/>
        </p:nvPicPr>
        <p:blipFill>
          <a:blip r:embed="rId3"/>
          <a:stretch/>
        </p:blipFill>
        <p:spPr>
          <a:xfrm>
            <a:off x="7924680" y="3933720"/>
            <a:ext cx="1148040" cy="104760"/>
          </a:xfrm>
          <a:prstGeom prst="rect">
            <a:avLst/>
          </a:prstGeom>
          <a:ln w="0">
            <a:noFill/>
          </a:ln>
        </p:spPr>
      </p:pic>
      <p:pic>
        <p:nvPicPr>
          <p:cNvPr id="1304" name="Picture 13" descr=""/>
          <p:cNvPicPr/>
          <p:nvPr/>
        </p:nvPicPr>
        <p:blipFill>
          <a:blip r:embed="rId4"/>
          <a:stretch/>
        </p:blipFill>
        <p:spPr>
          <a:xfrm>
            <a:off x="7910640" y="2209680"/>
            <a:ext cx="1157040" cy="384120"/>
          </a:xfrm>
          <a:prstGeom prst="rect">
            <a:avLst/>
          </a:prstGeom>
          <a:ln w="0">
            <a:noFill/>
          </a:ln>
        </p:spPr>
      </p:pic>
      <p:sp>
        <p:nvSpPr>
          <p:cNvPr id="13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06"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0F9A4-EB1C-43BE-AF5C-580C77ACEA28}"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307"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8"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8F4DC-7998-4231-9F92-9BA76ADF02D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9" name="Group 11"/>
          <p:cNvGrpSpPr/>
          <p:nvPr/>
        </p:nvGrpSpPr>
        <p:grpSpPr>
          <a:xfrm>
            <a:off x="6934320" y="2058840"/>
            <a:ext cx="2209680" cy="2038320"/>
            <a:chOff x="6934320" y="2058840"/>
            <a:chExt cx="2209680" cy="2038320"/>
          </a:xfrm>
        </p:grpSpPr>
        <p:sp>
          <p:nvSpPr>
            <p:cNvPr id="90"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2" name="Picture 1" descr=""/>
            <p:cNvPicPr/>
            <p:nvPr/>
          </p:nvPicPr>
          <p:blipFill>
            <a:blip r:embed="rId2"/>
            <a:stretch/>
          </p:blipFill>
          <p:spPr>
            <a:xfrm>
              <a:off x="7034040" y="2161800"/>
              <a:ext cx="696240" cy="508320"/>
            </a:xfrm>
            <a:prstGeom prst="rect">
              <a:avLst/>
            </a:prstGeom>
            <a:ln w="0">
              <a:noFill/>
            </a:ln>
          </p:spPr>
        </p:pic>
      </p:grpSp>
      <p:sp>
        <p:nvSpPr>
          <p:cNvPr id="93"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95" name="Picture 12" descr=""/>
          <p:cNvPicPr/>
          <p:nvPr/>
        </p:nvPicPr>
        <p:blipFill>
          <a:blip r:embed="rId3"/>
          <a:stretch/>
        </p:blipFill>
        <p:spPr>
          <a:xfrm>
            <a:off x="7924680" y="3933720"/>
            <a:ext cx="1148040" cy="104760"/>
          </a:xfrm>
          <a:prstGeom prst="rect">
            <a:avLst/>
          </a:prstGeom>
          <a:ln w="0">
            <a:noFill/>
          </a:ln>
        </p:spPr>
      </p:pic>
      <p:pic>
        <p:nvPicPr>
          <p:cNvPr id="96" name="Picture 13" descr=""/>
          <p:cNvPicPr/>
          <p:nvPr/>
        </p:nvPicPr>
        <p:blipFill>
          <a:blip r:embed="rId4"/>
          <a:stretch/>
        </p:blipFill>
        <p:spPr>
          <a:xfrm>
            <a:off x="7910640" y="2209680"/>
            <a:ext cx="11570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5" name="Picture 1" descr=""/>
          <p:cNvPicPr/>
          <p:nvPr/>
        </p:nvPicPr>
        <p:blipFill>
          <a:blip r:embed="rId2"/>
          <a:stretch/>
        </p:blipFill>
        <p:spPr>
          <a:xfrm>
            <a:off x="647640" y="3452760"/>
            <a:ext cx="803160" cy="585720"/>
          </a:xfrm>
          <a:prstGeom prst="rect">
            <a:avLst/>
          </a:prstGeom>
          <a:ln w="0">
            <a:noFill/>
          </a:ln>
        </p:spPr>
      </p:pic>
      <p:sp>
        <p:nvSpPr>
          <p:cNvPr id="13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8" name="Picture 10" descr=""/>
          <p:cNvPicPr/>
          <p:nvPr/>
        </p:nvPicPr>
        <p:blipFill>
          <a:blip r:embed="rId3"/>
          <a:stretch/>
        </p:blipFill>
        <p:spPr>
          <a:xfrm>
            <a:off x="1676520" y="3578400"/>
            <a:ext cx="1157040" cy="384120"/>
          </a:xfrm>
          <a:prstGeom prst="rect">
            <a:avLst/>
          </a:prstGeom>
          <a:ln w="0">
            <a:noFill/>
          </a:ln>
        </p:spPr>
      </p:pic>
      <p:pic>
        <p:nvPicPr>
          <p:cNvPr id="139" name="Picture 11" descr=""/>
          <p:cNvPicPr/>
          <p:nvPr/>
        </p:nvPicPr>
        <p:blipFill>
          <a:blip r:embed="rId4"/>
          <a:stretch/>
        </p:blipFill>
        <p:spPr>
          <a:xfrm>
            <a:off x="1676520" y="6676920"/>
            <a:ext cx="1147680" cy="104760"/>
          </a:xfrm>
          <a:prstGeom prst="rect">
            <a:avLst/>
          </a:prstGeom>
          <a:ln w="0">
            <a:noFill/>
          </a:ln>
        </p:spPr>
      </p:pic>
      <p:sp>
        <p:nvSpPr>
          <p:cNvPr id="140"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59AF0-C902-4921-93DA-9F4A8EFF4270}"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41"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2B8AE-C580-424E-A069-B4A4E957ABB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9"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1" name="Picture 1" descr=""/>
          <p:cNvPicPr/>
          <p:nvPr/>
        </p:nvPicPr>
        <p:blipFill>
          <a:blip r:embed="rId2"/>
          <a:stretch/>
        </p:blipFill>
        <p:spPr>
          <a:xfrm>
            <a:off x="647640" y="3452760"/>
            <a:ext cx="803160" cy="585720"/>
          </a:xfrm>
          <a:prstGeom prst="rect">
            <a:avLst/>
          </a:prstGeom>
          <a:ln w="0">
            <a:noFill/>
          </a:ln>
        </p:spPr>
      </p:pic>
      <p:sp>
        <p:nvSpPr>
          <p:cNvPr id="18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4" name="Picture 10" descr=""/>
          <p:cNvPicPr/>
          <p:nvPr/>
        </p:nvPicPr>
        <p:blipFill>
          <a:blip r:embed="rId3"/>
          <a:stretch/>
        </p:blipFill>
        <p:spPr>
          <a:xfrm>
            <a:off x="1676520" y="3578400"/>
            <a:ext cx="1157040" cy="384120"/>
          </a:xfrm>
          <a:prstGeom prst="rect">
            <a:avLst/>
          </a:prstGeom>
          <a:ln w="0">
            <a:noFill/>
          </a:ln>
        </p:spPr>
      </p:pic>
      <p:pic>
        <p:nvPicPr>
          <p:cNvPr id="185" name="Picture 11" descr=""/>
          <p:cNvPicPr/>
          <p:nvPr/>
        </p:nvPicPr>
        <p:blipFill>
          <a:blip r:embed="rId4"/>
          <a:stretch/>
        </p:blipFill>
        <p:spPr>
          <a:xfrm>
            <a:off x="1676520" y="6676920"/>
            <a:ext cx="1147680" cy="104760"/>
          </a:xfrm>
          <a:prstGeom prst="rect">
            <a:avLst/>
          </a:prstGeom>
          <a:ln w="0">
            <a:noFill/>
          </a:ln>
        </p:spPr>
      </p:pic>
      <p:sp>
        <p:nvSpPr>
          <p:cNvPr id="186"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BD156-F9F8-421D-A028-C5B4D118B78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187"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F4450-C506-45B9-8EF3-D909ACA067B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25"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7" name="Picture 1" descr=""/>
          <p:cNvPicPr/>
          <p:nvPr/>
        </p:nvPicPr>
        <p:blipFill>
          <a:blip r:embed="rId2"/>
          <a:stretch/>
        </p:blipFill>
        <p:spPr>
          <a:xfrm>
            <a:off x="647640" y="3452760"/>
            <a:ext cx="803160" cy="585720"/>
          </a:xfrm>
          <a:prstGeom prst="rect">
            <a:avLst/>
          </a:prstGeom>
          <a:ln w="0">
            <a:noFill/>
          </a:ln>
        </p:spPr>
      </p:pic>
      <p:sp>
        <p:nvSpPr>
          <p:cNvPr id="228"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0" name="Picture 10" descr=""/>
          <p:cNvPicPr/>
          <p:nvPr/>
        </p:nvPicPr>
        <p:blipFill>
          <a:blip r:embed="rId3"/>
          <a:stretch/>
        </p:blipFill>
        <p:spPr>
          <a:xfrm>
            <a:off x="1676520" y="3578400"/>
            <a:ext cx="1157040" cy="384120"/>
          </a:xfrm>
          <a:prstGeom prst="rect">
            <a:avLst/>
          </a:prstGeom>
          <a:ln w="0">
            <a:noFill/>
          </a:ln>
        </p:spPr>
      </p:pic>
      <p:pic>
        <p:nvPicPr>
          <p:cNvPr id="231" name="Picture 11" descr=""/>
          <p:cNvPicPr/>
          <p:nvPr/>
        </p:nvPicPr>
        <p:blipFill>
          <a:blip r:embed="rId4"/>
          <a:stretch/>
        </p:blipFill>
        <p:spPr>
          <a:xfrm>
            <a:off x="1676520" y="6676920"/>
            <a:ext cx="1147680" cy="104760"/>
          </a:xfrm>
          <a:prstGeom prst="rect">
            <a:avLst/>
          </a:prstGeom>
          <a:ln w="0">
            <a:noFill/>
          </a:ln>
        </p:spPr>
      </p:pic>
      <p:sp>
        <p:nvSpPr>
          <p:cNvPr id="232"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9BABC-5F6C-453D-863E-F665EC6A027F}"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33"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C33F1-212F-489A-A48F-8DB61AC830E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71"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3" name="Picture 1" descr=""/>
          <p:cNvPicPr/>
          <p:nvPr/>
        </p:nvPicPr>
        <p:blipFill>
          <a:blip r:embed="rId2"/>
          <a:stretch/>
        </p:blipFill>
        <p:spPr>
          <a:xfrm>
            <a:off x="647640" y="3452760"/>
            <a:ext cx="803160" cy="585720"/>
          </a:xfrm>
          <a:prstGeom prst="rect">
            <a:avLst/>
          </a:prstGeom>
          <a:ln w="0">
            <a:noFill/>
          </a:ln>
        </p:spPr>
      </p:pic>
      <p:sp>
        <p:nvSpPr>
          <p:cNvPr id="27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6" name="Picture 10" descr=""/>
          <p:cNvPicPr/>
          <p:nvPr/>
        </p:nvPicPr>
        <p:blipFill>
          <a:blip r:embed="rId3"/>
          <a:stretch/>
        </p:blipFill>
        <p:spPr>
          <a:xfrm>
            <a:off x="1676520" y="3578400"/>
            <a:ext cx="1157040" cy="384120"/>
          </a:xfrm>
          <a:prstGeom prst="rect">
            <a:avLst/>
          </a:prstGeom>
          <a:ln w="0">
            <a:noFill/>
          </a:ln>
        </p:spPr>
      </p:pic>
      <p:pic>
        <p:nvPicPr>
          <p:cNvPr id="277" name="Picture 11" descr=""/>
          <p:cNvPicPr/>
          <p:nvPr/>
        </p:nvPicPr>
        <p:blipFill>
          <a:blip r:embed="rId4"/>
          <a:stretch/>
        </p:blipFill>
        <p:spPr>
          <a:xfrm>
            <a:off x="1676520" y="6676920"/>
            <a:ext cx="1147680" cy="104760"/>
          </a:xfrm>
          <a:prstGeom prst="rect">
            <a:avLst/>
          </a:prstGeom>
          <a:ln w="0">
            <a:noFill/>
          </a:ln>
        </p:spPr>
      </p:pic>
      <p:sp>
        <p:nvSpPr>
          <p:cNvPr id="278"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6C914-3C62-4EC2-AC3D-340657A711EF}"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279"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A4140-6D46-4278-97C0-B158DAB5A0E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2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23"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7CB1C-2C62-45B0-A335-6C94B3545827}" type="datetime">
              <a:rPr b="0" lang="en-US" sz="2400" spc="-1" strike="noStrike">
                <a:solidFill>
                  <a:srgbClr val="000000"/>
                </a:solidFill>
                <a:latin typeface="Calibri"/>
              </a:rPr>
              <a:t>07/30/26</a:t>
            </a:fld>
            <a:endParaRPr b="0" lang="en-US" sz="2400" spc="-1" strike="noStrike">
              <a:solidFill>
                <a:srgbClr val="000000"/>
              </a:solidFill>
              <a:latin typeface="Times New Roman"/>
            </a:endParaRPr>
          </a:p>
        </p:txBody>
      </p:sp>
      <p:sp>
        <p:nvSpPr>
          <p:cNvPr id="324"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D630F-F815-43DF-895E-A3530934F49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6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68"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Dirección de Presupuestos</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369"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BFA6B-3DB2-4A2B-B4B4-8EC25CD742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hyperlink" Target="file:///CN2_V1_11012013_Bono_Post_Laboral_Ley_20636.pdf" TargetMode="Externa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hyperlink" Target="http://www.tesoreria.cl/" TargetMode="External"/><Relationship Id="rId2" Type="http://schemas.openxmlformats.org/officeDocument/2006/relationships/hyperlink" Target="http://www.tesoreria.cl/" TargetMode="External"/><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hyperlink" Target="file:///PostLaboral.pdf" TargetMode="External"/><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600200"/>
            <a:ext cx="7772400" cy="9367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ffff"/>
                </a:solidFill>
                <a:latin typeface="Verdana"/>
              </a:rPr>
              <a:t>LEY N° 20.636</a:t>
            </a:r>
            <a:endParaRPr b="0" lang="en-US" sz="3200" spc="-1" strike="noStrike">
              <a:solidFill>
                <a:srgbClr val="ffffff"/>
              </a:solidFill>
              <a:latin typeface="Calibri"/>
            </a:endParaRPr>
          </a:p>
        </p:txBody>
      </p:sp>
      <p:sp>
        <p:nvSpPr>
          <p:cNvPr id="1353" name="PlaceHolder 2"/>
          <p:cNvSpPr>
            <a:spLocks noGrp="1"/>
          </p:cNvSpPr>
          <p:nvPr>
            <p:ph type="subTitle"/>
          </p:nvPr>
        </p:nvSpPr>
        <p:spPr>
          <a:xfrm>
            <a:off x="457200" y="2666880"/>
            <a:ext cx="7772400" cy="60984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introduce modificaciones a la ley N° 20.305</a:t>
            </a:r>
            <a:endParaRPr b="0" lang="en-US" sz="24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52280" y="115920"/>
            <a:ext cx="8164800" cy="1179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2" name=""/>
          <p:cNvSpPr txBox="1"/>
          <p:nvPr/>
        </p:nvSpPr>
        <p:spPr>
          <a:xfrm>
            <a:off x="1332000" y="1483920"/>
            <a:ext cx="7200720" cy="44658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jemplos:</a:t>
            </a:r>
            <a:endParaRPr b="0" lang="en-US" sz="2400" spc="-1" strike="noStrike">
              <a:solidFill>
                <a:srgbClr val="595959"/>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Funcionaria que cumplió 60 años el 15/08/2011</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n modificación: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vencido</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vencido</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Con modificación:</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31/03 de 2013 ó de 2014</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31/03 de 2014 ó de 2015</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4" name=""/>
          <p:cNvSpPr txBox="1"/>
          <p:nvPr/>
        </p:nvSpPr>
        <p:spPr>
          <a:xfrm>
            <a:off x="1187280" y="1700280"/>
            <a:ext cx="7142400" cy="3960720"/>
          </a:xfrm>
          <a:prstGeom prst="rect">
            <a:avLst/>
          </a:prstGeom>
          <a:noFill/>
          <a:ln w="0">
            <a:noFill/>
          </a:ln>
        </p:spPr>
        <p:txBody>
          <a:bodyPr anchor="t">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jemplos (continuación):</a:t>
            </a:r>
            <a:endParaRPr b="0" lang="en-US" sz="2400" spc="-1" strike="noStrike">
              <a:solidFill>
                <a:srgbClr val="595959"/>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Funcionario que cumplió 65 años el 20/04/2012</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n modificación: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vigente</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se vence si espera resolución</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Con modificación:</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31/03 de 2013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31/03 de 2014</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6" name=""/>
          <p:cNvSpPr txBox="1"/>
          <p:nvPr/>
        </p:nvSpPr>
        <p:spPr>
          <a:xfrm>
            <a:off x="971280" y="1477440"/>
            <a:ext cx="7358040" cy="452628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SITUACIONES ESPECIALES</a:t>
            </a:r>
            <a:endParaRPr b="0" lang="en-US" sz="24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suspendido por el Servicio de Tesorería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no cursado por el Servicio de Tesorería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olicitud no presentada por pensionados por invalidez</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olicitud presentada fuera de plazo por pensionados por vejez</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no cursado por motivos ajenos al ex funcionario</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rofesionales de la educación</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8" name=""/>
          <p:cNvSpPr txBox="1"/>
          <p:nvPr/>
        </p:nvSpPr>
        <p:spPr>
          <a:xfrm>
            <a:off x="539640" y="1477440"/>
            <a:ext cx="8164800" cy="4543560"/>
          </a:xfrm>
          <a:prstGeom prst="rect">
            <a:avLst/>
          </a:prstGeom>
          <a:noFill/>
          <a:ln w="0">
            <a:noFill/>
          </a:ln>
        </p:spPr>
        <p:txBody>
          <a:bodyPr anchor="t">
            <a:normAutofit fontScale="92000"/>
          </a:bodyPr>
          <a:p>
            <a:pPr lvl="2" marL="315360" indent="-315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ARTÍCULO 3°</a:t>
            </a:r>
            <a:endParaRPr b="0" lang="en-US" sz="2400" spc="-1" strike="noStrike">
              <a:solidFill>
                <a:srgbClr val="595959"/>
              </a:solidFill>
              <a:latin typeface="Calibri"/>
            </a:endParaRPr>
          </a:p>
          <a:p>
            <a:pPr lvl="2" marL="315360" indent="-31536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D</a:t>
            </a:r>
            <a:r>
              <a:rPr b="0" lang="es-ES" sz="2000" spc="-1" strike="noStrike">
                <a:solidFill>
                  <a:srgbClr val="000000"/>
                </a:solidFill>
                <a:latin typeface="Verdana"/>
              </a:rPr>
              <a:t>eclara bien pagados por el Servicio de Tesorerías el bono establecido en la ley N° 20.305 percibido en el </a:t>
            </a:r>
            <a:r>
              <a:rPr b="0" lang="es-ES" sz="2000" spc="-1" strike="noStrike">
                <a:solidFill>
                  <a:srgbClr val="000000"/>
                </a:solidFill>
                <a:latin typeface="Verdana"/>
              </a:rPr>
              <a:t>	</a:t>
            </a:r>
            <a:r>
              <a:rPr b="0" lang="es-ES" sz="2000" spc="-1" strike="noStrike">
                <a:solidFill>
                  <a:srgbClr val="000000"/>
                </a:solidFill>
                <a:latin typeface="Verdana"/>
              </a:rPr>
              <a:t>período comprendido entre el 01/01/2009 y 17/11/2012 (publicación ley N° 20.636) y</a:t>
            </a:r>
            <a:endParaRPr b="0" lang="en-US" sz="2000" spc="-1" strike="noStrike">
              <a:solidFill>
                <a:srgbClr val="595959"/>
              </a:solidFill>
              <a:latin typeface="Calibri"/>
            </a:endParaRPr>
          </a:p>
          <a:p>
            <a:pPr lvl="2" marL="315360" indent="-315360" algn="just">
              <a:lnSpc>
                <a:spcPct val="100000"/>
              </a:lnSpc>
              <a:spcBef>
                <a:spcPts val="499"/>
              </a:spcBef>
              <a:buClr>
                <a:srgbClr val="000000"/>
              </a:buClr>
              <a:buFont typeface="Verdana"/>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buClr>
                <a:srgbClr val="000000"/>
              </a:buClr>
              <a:buFont typeface="Verdana"/>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Permite percibir el beneficio, a los funcionarios que les fue suspendido el pago por el Servicio de Tesorerías, por no haberse acreditado el requisito establecido por el art. 2°  N° 1</a:t>
            </a: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rPr>
              <a:t>	</a:t>
            </a:r>
            <a:endParaRPr b="0" lang="en-US" sz="2000" spc="-1" strike="noStrike">
              <a:solidFill>
                <a:srgbClr val="595959"/>
              </a:solidFill>
              <a:latin typeface="Calibri"/>
            </a:endParaRPr>
          </a:p>
        </p:txBody>
      </p:sp>
      <p:sp>
        <p:nvSpPr>
          <p:cNvPr id="1379" name="1 CuadroTexto"/>
          <p:cNvSpPr/>
          <p:nvPr/>
        </p:nvSpPr>
        <p:spPr>
          <a:xfrm>
            <a:off x="2411280" y="5445000"/>
            <a:ext cx="4392720" cy="368280"/>
          </a:xfrm>
          <a:prstGeom prst="rect">
            <a:avLst/>
          </a:prstGeom>
          <a:solidFill>
            <a:srgbClr val="4f81bd"/>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ff"/>
                </a:solidFill>
                <a:uFillTx/>
                <a:latin typeface="Calibri"/>
                <a:hlinkClick r:id="rId1"/>
              </a:rPr>
              <a:t>Circular Nº 2, 2013, del Servicio de Tesorerí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1" name=""/>
          <p:cNvSpPr txBox="1"/>
          <p:nvPr/>
        </p:nvSpPr>
        <p:spPr>
          <a:xfrm>
            <a:off x="826560" y="1988640"/>
            <a:ext cx="7502760" cy="3095640"/>
          </a:xfrm>
          <a:prstGeom prst="rect">
            <a:avLst/>
          </a:prstGeom>
          <a:noFill/>
          <a:ln w="0">
            <a:noFill/>
          </a:ln>
        </p:spPr>
        <p:txBody>
          <a:bodyPr anchor="t">
            <a:normAutofit fontScale="83000"/>
          </a:bodyPr>
          <a:p>
            <a:pPr lvl="2" marL="284400" indent="-28440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4°</a:t>
            </a:r>
            <a:endParaRPr b="0" lang="en-US" sz="2400" spc="-1" strike="noStrike">
              <a:solidFill>
                <a:srgbClr val="595959"/>
              </a:solidFill>
              <a:latin typeface="Calibri"/>
            </a:endParaRPr>
          </a:p>
          <a:p>
            <a:pPr lvl="2" marL="284400" indent="-28440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lvl="2" marL="284400" indent="-28440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400" spc="-1" strike="noStrike">
                <a:solidFill>
                  <a:srgbClr val="000000"/>
                </a:solidFill>
                <a:latin typeface="Calibri"/>
              </a:rPr>
              <a:t>Norma </a:t>
            </a:r>
            <a:r>
              <a:rPr b="0" lang="es-ES" sz="2400" spc="-1" strike="noStrike">
                <a:solidFill>
                  <a:srgbClr val="000000"/>
                </a:solidFill>
                <a:latin typeface="Verdana"/>
              </a:rPr>
              <a:t>especial que habilita para percibir el beneficio a los funcionarios que no pudieron acceder a él por no haberse acreditado el requisito establecido por el art. 2° N° 1 de la ley N° 20.305. </a:t>
            </a:r>
            <a:endParaRPr b="0" lang="en-US" sz="2400" spc="-1" strike="noStrike">
              <a:solidFill>
                <a:srgbClr val="595959"/>
              </a:solidFill>
              <a:latin typeface="Calibri"/>
            </a:endParaRPr>
          </a:p>
          <a:p>
            <a:pPr lvl="2" marL="284400" indent="-28440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rPr>
              <a:t>	</a:t>
            </a:r>
            <a:endParaRPr b="0" lang="en-US" sz="2400" spc="-1" strike="noStrike">
              <a:solidFill>
                <a:srgbClr val="595959"/>
              </a:solidFill>
              <a:latin typeface="Calibri"/>
            </a:endParaRPr>
          </a:p>
          <a:p>
            <a:pPr lvl="2" marL="284400" indent="-28440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rPr>
              <a:t>	</a:t>
            </a:r>
            <a:endParaRPr b="0" lang="en-US" sz="2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3" name=""/>
          <p:cNvSpPr txBox="1"/>
          <p:nvPr/>
        </p:nvSpPr>
        <p:spPr>
          <a:xfrm>
            <a:off x="899640" y="1899720"/>
            <a:ext cx="7642440" cy="38163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400" spc="-1" strike="noStrike">
                <a:solidFill>
                  <a:srgbClr val="000000"/>
                </a:solidFill>
                <a:latin typeface="Verdana"/>
              </a:rPr>
              <a:t>ARTÍCULO 6°</a:t>
            </a:r>
            <a:endParaRPr b="0" lang="en-US" sz="2400" spc="-1" strike="noStrike">
              <a:solidFill>
                <a:srgbClr val="595959"/>
              </a:solidFill>
              <a:latin typeface="Calibri"/>
            </a:endParaRPr>
          </a:p>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libri"/>
            </a:endParaRPr>
          </a:p>
          <a:p>
            <a:pPr lvl="1" marL="743040" indent="-285840" algn="just">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595959"/>
                </a:solidFill>
                <a:latin typeface="Verdana"/>
              </a:rPr>
              <a:t>	</a:t>
            </a:r>
            <a:r>
              <a:rPr b="0" lang="es-ES" sz="2000" spc="-1" strike="noStrike">
                <a:solidFill>
                  <a:srgbClr val="000000"/>
                </a:solidFill>
                <a:latin typeface="Verdana"/>
              </a:rPr>
              <a:t>Norma especial que faculta a las personas que </a:t>
            </a:r>
            <a:r>
              <a:rPr b="1" lang="es-ES" sz="2000" spc="-1" strike="noStrike">
                <a:solidFill>
                  <a:srgbClr val="000000"/>
                </a:solidFill>
                <a:latin typeface="Verdana"/>
              </a:rPr>
              <a:t>obtuvieron una pensión de invalidez </a:t>
            </a:r>
            <a:r>
              <a:rPr b="0" lang="es-ES" sz="2000" spc="-1" strike="noStrike">
                <a:solidFill>
                  <a:srgbClr val="000000"/>
                </a:solidFill>
                <a:latin typeface="Verdana"/>
              </a:rPr>
              <a:t>del DL N° 3.500, de 1980, que cumpliendo los requisitos señalados en el art. 12 de la ley 20.305, por diversos motivos no hubiesen presentado la solicitud al pago del bono dentro del plazo señalado, podrán, excepcionalmente, solicitar el pago del bono a contar de la vigencia de esta ley.</a:t>
            </a:r>
            <a:endParaRPr b="0" lang="en-US" sz="2000" spc="-1" strike="noStrike">
              <a:solidFill>
                <a:srgbClr val="595959"/>
              </a:solidFill>
              <a:latin typeface="Calibri"/>
            </a:endParaRPr>
          </a:p>
        </p:txBody>
      </p:sp>
      <p:sp>
        <p:nvSpPr>
          <p:cNvPr id="1384"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929FE-8066-4E34-BF4A-2C980B153498}"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6" name=""/>
          <p:cNvSpPr txBox="1"/>
          <p:nvPr/>
        </p:nvSpPr>
        <p:spPr>
          <a:xfrm>
            <a:off x="971280" y="1628280"/>
            <a:ext cx="7643880" cy="4032360"/>
          </a:xfrm>
          <a:prstGeom prst="rect">
            <a:avLst/>
          </a:prstGeom>
          <a:noFill/>
          <a:ln w="0">
            <a:noFill/>
          </a:ln>
        </p:spPr>
        <p:txBody>
          <a:bodyPr anchor="t">
            <a:normAutofit fontScale="98000"/>
          </a:bodyPr>
          <a:p>
            <a:pPr lvl="1" marL="727920" indent="-2800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400" spc="-1" strike="noStrike">
                <a:solidFill>
                  <a:srgbClr val="000000"/>
                </a:solidFill>
                <a:latin typeface="Verdana"/>
              </a:rPr>
              <a:t>ARTÍCULO</a:t>
            </a:r>
            <a:r>
              <a:rPr b="1" lang="es-ES_tradnl" sz="2400" spc="-1" strike="noStrike">
                <a:solidFill>
                  <a:srgbClr val="595959"/>
                </a:solidFill>
                <a:latin typeface="Verdana"/>
              </a:rPr>
              <a:t> 7°</a:t>
            </a:r>
            <a:endParaRPr b="0" lang="en-US" sz="2400" spc="-1" strike="noStrike">
              <a:solidFill>
                <a:srgbClr val="595959"/>
              </a:solidFill>
              <a:latin typeface="Calibri"/>
            </a:endParaRPr>
          </a:p>
          <a:p>
            <a:pPr lvl="1" marL="727920" indent="-2800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libri"/>
            </a:endParaRPr>
          </a:p>
          <a:p>
            <a:pPr lvl="1" marL="727920" indent="-280080" algn="just">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595959"/>
                </a:solidFill>
                <a:latin typeface="Verdana"/>
              </a:rPr>
              <a:t>	</a:t>
            </a:r>
            <a:r>
              <a:rPr b="0" lang="es-ES" sz="2000" spc="-1" strike="noStrike">
                <a:solidFill>
                  <a:srgbClr val="000000"/>
                </a:solidFill>
                <a:latin typeface="Verdana"/>
              </a:rPr>
              <a:t>Norma especial que faculta a las personas que </a:t>
            </a:r>
            <a:r>
              <a:rPr b="1" lang="es-ES" sz="2000" spc="-1" strike="noStrike">
                <a:solidFill>
                  <a:srgbClr val="000000"/>
                </a:solidFill>
                <a:latin typeface="Verdana"/>
              </a:rPr>
              <a:t>obtuvieron una pensión de vejez del DL N° 3.500, de 1980, artículo 68 bis (por haber realizado trabajos pesados)</a:t>
            </a:r>
            <a:r>
              <a:rPr b="0" lang="es-ES" sz="2000" spc="-1" strike="noStrike">
                <a:solidFill>
                  <a:srgbClr val="000000"/>
                </a:solidFill>
                <a:latin typeface="Verdana"/>
              </a:rPr>
              <a:t> que cumpliendo los requisitos señalados en el art. 13 de la ley 20.305, por diversos motivos no hubiesen presentado la solicitud al pago del bono dentro del plazo señalado, podrán, excepcionalmente, solicitar el pago del bono a contar de la vigencia de esta ley.</a:t>
            </a: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8" name=""/>
          <p:cNvSpPr txBox="1"/>
          <p:nvPr/>
        </p:nvSpPr>
        <p:spPr>
          <a:xfrm>
            <a:off x="468360" y="1844280"/>
            <a:ext cx="8177040" cy="4111560"/>
          </a:xfrm>
          <a:prstGeom prst="rect">
            <a:avLst/>
          </a:prstGeom>
          <a:noFill/>
          <a:ln w="0">
            <a:noFill/>
          </a:ln>
        </p:spPr>
        <p:txBody>
          <a:bodyPr anchor="t">
            <a:normAutofit fontScale="90000"/>
          </a:bodyPr>
          <a:p>
            <a:pPr marL="308520" indent="-30852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Verdana"/>
                <a:ea typeface="ＭＳ Ｐゴシック"/>
              </a:rPr>
              <a:t>	</a:t>
            </a:r>
            <a:r>
              <a:rPr b="1" lang="es-ES_tradnl" sz="2000" spc="-1" strike="noStrike">
                <a:solidFill>
                  <a:srgbClr val="000000"/>
                </a:solidFill>
                <a:latin typeface="Verdana"/>
                <a:ea typeface="ＭＳ Ｐゴシック"/>
              </a:rPr>
              <a:t>	</a:t>
            </a:r>
            <a:r>
              <a:rPr b="1" lang="es-ES_tradnl" sz="2000" spc="-1" strike="noStrike">
                <a:solidFill>
                  <a:srgbClr val="000000"/>
                </a:solidFill>
                <a:latin typeface="Verdana"/>
                <a:ea typeface="ＭＳ Ｐゴシック"/>
              </a:rPr>
              <a:t>ARTÍCULO PRIMERO TRANSITORIO</a:t>
            </a:r>
            <a:endParaRPr b="0" lang="en-US" sz="2000" spc="-1" strike="noStrike">
              <a:solidFill>
                <a:srgbClr val="595959"/>
              </a:solidFill>
              <a:latin typeface="Calibri"/>
            </a:endParaRPr>
          </a:p>
          <a:p>
            <a:pPr marL="308520" indent="-308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Norma excepcional que contempla un nuevo plazo para solicitar el bono post laboral siempre que los funcionarios cumplan los siguientes requisitos:</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08520" indent="-308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000" spc="-1" strike="noStrike">
                <a:solidFill>
                  <a:srgbClr val="000000"/>
                </a:solidFill>
                <a:latin typeface="Verdana"/>
              </a:rPr>
              <a:t>a)</a:t>
            </a:r>
            <a:r>
              <a:rPr b="0" lang="es-ES" sz="2000" spc="-1" strike="noStrike">
                <a:solidFill>
                  <a:srgbClr val="000000"/>
                </a:solidFill>
                <a:latin typeface="Verdana"/>
              </a:rPr>
              <a:t>	</a:t>
            </a:r>
            <a:r>
              <a:rPr b="0" lang="es-ES" sz="2000" spc="-1" strike="noStrike">
                <a:solidFill>
                  <a:srgbClr val="000000"/>
                </a:solidFill>
                <a:latin typeface="Verdana"/>
              </a:rPr>
              <a:t>Haber cesado en el cargo con anterioridad al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17/11/2012   </a:t>
            </a:r>
            <a:r>
              <a:rPr b="0" lang="es-ES" sz="2000" spc="-1" strike="noStrike">
                <a:solidFill>
                  <a:srgbClr val="000000"/>
                </a:solidFill>
                <a:latin typeface="Verdana"/>
              </a:rPr>
              <a:t>	</a:t>
            </a:r>
            <a:r>
              <a:rPr b="0" lang="es-ES" sz="2000" spc="-1" strike="noStrike">
                <a:solidFill>
                  <a:srgbClr val="000000"/>
                </a:solidFill>
                <a:latin typeface="Verdana"/>
              </a:rPr>
              <a:t>  (publicación ley N° 20.636).</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b) </a:t>
            </a:r>
            <a:r>
              <a:rPr b="0" lang="es-ES" sz="2000" spc="-1" strike="noStrike">
                <a:solidFill>
                  <a:srgbClr val="000000"/>
                </a:solidFill>
                <a:latin typeface="Verdana"/>
              </a:rPr>
              <a:t>	</a:t>
            </a:r>
            <a:r>
              <a:rPr b="0" lang="es-ES" sz="2000" spc="-1" strike="noStrike">
                <a:solidFill>
                  <a:srgbClr val="000000"/>
                </a:solidFill>
                <a:latin typeface="Verdana"/>
              </a:rPr>
              <a:t>Haber   presentado   la Solicitud del Bono Post Laboral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en el plazo legal.</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c) </a:t>
            </a:r>
            <a:r>
              <a:rPr b="0" lang="es-ES" sz="2000" spc="-1" strike="noStrike">
                <a:solidFill>
                  <a:srgbClr val="000000"/>
                </a:solidFill>
                <a:latin typeface="Verdana"/>
              </a:rPr>
              <a:t>	</a:t>
            </a:r>
            <a:r>
              <a:rPr b="0" lang="es-ES" sz="2000" spc="-1" strike="noStrike">
                <a:solidFill>
                  <a:srgbClr val="000000"/>
                </a:solidFill>
                <a:latin typeface="Verdana"/>
              </a:rPr>
              <a:t>No haber accedido al bono por motivos no imputables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a ellos.</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ea typeface="ＭＳ Ｐゴシック"/>
              </a:rPr>
              <a:t>	</a:t>
            </a: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90" name=""/>
          <p:cNvSpPr txBox="1"/>
          <p:nvPr/>
        </p:nvSpPr>
        <p:spPr>
          <a:xfrm>
            <a:off x="1187280" y="1916280"/>
            <a:ext cx="7142400" cy="3457440"/>
          </a:xfrm>
          <a:prstGeom prst="rect">
            <a:avLst/>
          </a:prstGeom>
          <a:noFill/>
          <a:ln w="0">
            <a:noFill/>
          </a:ln>
        </p:spPr>
        <p:txBody>
          <a:bodyPr anchor="t">
            <a:normAutofit fontScale="86000"/>
          </a:bodyPr>
          <a:p>
            <a:pPr marL="294840" indent="-29484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ea typeface="ＭＳ Ｐゴシック"/>
              </a:rPr>
              <a:t>ARTÍCULO SEGUNDO TRANSITORIO</a:t>
            </a:r>
            <a:endParaRPr b="0" lang="en-US" sz="2400" spc="-1" strike="noStrike">
              <a:solidFill>
                <a:srgbClr val="595959"/>
              </a:solidFill>
              <a:latin typeface="Calibri"/>
            </a:endParaRPr>
          </a:p>
          <a:p>
            <a:pPr marL="294840" indent="-294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294840" indent="-2948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400" spc="-1" strike="noStrike">
                <a:solidFill>
                  <a:srgbClr val="000000"/>
                </a:solidFill>
                <a:latin typeface="Verdana"/>
              </a:rPr>
              <a:t>Norma excepcional con nuevo plazo para solicitar el beneficio para los profesionales de la educación que hayan sido o sean beneficiarios de la bonificación por retiro voluntario art. noveno transitorio Ley N° 20.501</a:t>
            </a:r>
            <a:r>
              <a:rPr b="0" lang="es-ES" sz="2400" spc="-1" strike="noStrike">
                <a:solidFill>
                  <a:srgbClr val="595959"/>
                </a:solidFill>
                <a:latin typeface="Verdana"/>
              </a:rPr>
              <a:t>.</a:t>
            </a:r>
            <a:endParaRPr b="0" lang="en-US" sz="2400" spc="-1" strike="noStrike">
              <a:solidFill>
                <a:srgbClr val="595959"/>
              </a:solidFill>
              <a:latin typeface="Calibri"/>
            </a:endParaRPr>
          </a:p>
          <a:p>
            <a:pPr marL="294840" indent="-2948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595959"/>
                </a:solidFill>
                <a:latin typeface="Verdana"/>
              </a:rPr>
              <a:t>	</a:t>
            </a:r>
            <a:endParaRPr b="0" lang="en-US" sz="2400" spc="-1" strike="noStrike">
              <a:solidFill>
                <a:srgbClr val="595959"/>
              </a:solidFill>
              <a:latin typeface="Calibri"/>
            </a:endParaRPr>
          </a:p>
          <a:p>
            <a:pPr marL="294840" indent="-2948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ea typeface="ＭＳ Ｐゴシック"/>
              </a:rPr>
              <a:t>	</a:t>
            </a:r>
            <a:endParaRPr b="0" lang="en-US" sz="2400" spc="-1" strike="noStrike">
              <a:solidFill>
                <a:srgbClr val="595959"/>
              </a:solidFill>
              <a:latin typeface="Calibri"/>
            </a:endParaRPr>
          </a:p>
          <a:p>
            <a:pPr marL="294840" indent="-2948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Presentación ley N° 20.636 </a:t>
            </a:r>
            <a:br>
              <a:rPr sz="2400"/>
            </a:br>
            <a:r>
              <a:rPr b="0" lang="es-ES_tradnl" sz="2400" spc="-1" strike="noStrike">
                <a:solidFill>
                  <a:srgbClr val="ffffff"/>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92" name=""/>
          <p:cNvSpPr txBox="1"/>
          <p:nvPr/>
        </p:nvSpPr>
        <p:spPr>
          <a:xfrm>
            <a:off x="151920" y="1295280"/>
            <a:ext cx="8177400" cy="5013360"/>
          </a:xfrm>
          <a:prstGeom prst="rect">
            <a:avLst/>
          </a:prstGeom>
          <a:noFill/>
          <a:ln w="0">
            <a:noFill/>
          </a:ln>
        </p:spPr>
        <p:txBody>
          <a:bodyPr anchor="t">
            <a:normAutofit fontScale="96000"/>
          </a:bodyPr>
          <a:p>
            <a:pPr marL="329040" indent="-32904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Verdana"/>
              </a:rPr>
              <a:t>AVISOS IMPORTANTES:</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29040" indent="-329040" algn="just">
              <a:lnSpc>
                <a:spcPct val="100000"/>
              </a:lnSpc>
              <a:spcBef>
                <a:spcPts val="499"/>
              </a:spcBef>
              <a:buClr>
                <a:srgbClr val="d9d9d9"/>
              </a:buClr>
              <a:buFont typeface="Verdana"/>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Verdana"/>
              </a:rPr>
              <a:t>La Circular N° 2 se encuentra disponible en el sitio </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Verdana"/>
                <a:hlinkClick r:id="rId1"/>
              </a:rPr>
              <a:t>	</a:t>
            </a:r>
            <a:r>
              <a:rPr b="0" lang="es-ES" sz="2000" spc="-1" strike="noStrike" u="sng">
                <a:solidFill>
                  <a:srgbClr val="0000ff"/>
                </a:solidFill>
                <a:uFillTx/>
                <a:latin typeface="Verdana"/>
                <a:hlinkClick r:id="rId2"/>
              </a:rPr>
              <a:t>www.tesoreria.cl</a:t>
            </a:r>
            <a:r>
              <a:rPr b="0" lang="es-ES" sz="2000" spc="-1" strike="noStrike">
                <a:solidFill>
                  <a:srgbClr val="ffffff"/>
                </a:solidFill>
                <a:latin typeface="Verdana"/>
              </a:rPr>
              <a:t> opción Documentos, en Leyes y Reglamentos.</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29040" indent="-329040" algn="just">
              <a:lnSpc>
                <a:spcPct val="100000"/>
              </a:lnSpc>
              <a:spcBef>
                <a:spcPts val="499"/>
              </a:spcBef>
              <a:buClr>
                <a:srgbClr val="d9d9d9"/>
              </a:buClr>
              <a:buFont typeface="Verdana"/>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ffffff"/>
                </a:solidFill>
                <a:latin typeface="Verdana"/>
              </a:rPr>
              <a:t>Sin perjuicio de las modificaciones introducidas por la ley N° 20.636, que complementan la ley N° 20.305, en lo no modificado rige la ley N° 20.305. Por tanto, el procedimiento para verificar el cumplimiento de los requisitos deberá ajustarse a lo señalado en el “Manual para la Implementación de la Ley N° 20.305 año 2010”, elaborado por la Dirección de Presupuestos, disponible en www.sinim.gov.cl</a:t>
            </a:r>
            <a:endParaRPr b="0" lang="en-US" sz="2000" spc="-1" strike="noStrike">
              <a:solidFill>
                <a:srgbClr val="595959"/>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5" name=""/>
          <p:cNvSpPr txBox="1"/>
          <p:nvPr/>
        </p:nvSpPr>
        <p:spPr>
          <a:xfrm>
            <a:off x="900000" y="2133360"/>
            <a:ext cx="7128000" cy="274140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TEMARIO</a:t>
            </a:r>
            <a:endParaRPr b="0" lang="en-US" sz="2400" spc="-1" strike="noStrike">
              <a:solidFill>
                <a:srgbClr val="595959"/>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SPECTOS GENERALE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FECTOS EN RETIRO VOLUNTARIO LEY Nº 20.349</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TUACIONES ESPECIALES</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7" name=""/>
          <p:cNvSpPr txBox="1"/>
          <p:nvPr/>
        </p:nvSpPr>
        <p:spPr>
          <a:xfrm>
            <a:off x="1534680" y="2420640"/>
            <a:ext cx="6782040" cy="2087640"/>
          </a:xfrm>
          <a:prstGeom prst="rect">
            <a:avLst/>
          </a:prstGeom>
          <a:noFill/>
          <a:ln w="0">
            <a:noFill/>
          </a:ln>
        </p:spPr>
        <p:txBody>
          <a:bodyPr anchor="t">
            <a:norm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ASPECTOS GENERALES</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quisitos ley Nº 20.305 (Bono post laboral)</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Modificaciones generales Ley Nº 20.636</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9" name=""/>
          <p:cNvSpPr txBox="1"/>
          <p:nvPr/>
        </p:nvSpPr>
        <p:spPr>
          <a:xfrm>
            <a:off x="755640" y="1295280"/>
            <a:ext cx="7817040" cy="494208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595959"/>
                </a:solidFill>
                <a:latin typeface="Verdana"/>
              </a:rPr>
              <a:t>	</a:t>
            </a:r>
            <a:r>
              <a:rPr b="1" lang="es-ES" sz="2000" spc="-1" strike="noStrike" u="sng">
                <a:solidFill>
                  <a:srgbClr val="000000"/>
                </a:solidFill>
                <a:uFillTx/>
                <a:latin typeface="Verdana"/>
              </a:rPr>
              <a:t>Requisitos:</a:t>
            </a:r>
            <a:endParaRPr b="0" lang="en-US" sz="2000" spc="-1" strike="noStrike">
              <a:solidFill>
                <a:srgbClr val="595959"/>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Encontrarse afiliado al sistema de pensiones del DL N° 3.500, de 1980 y cotizar en dicho sistema por el ejercicio de su función pública.</a:t>
            </a:r>
            <a:endParaRPr b="0" lang="en-US" sz="1800" spc="-1" strike="noStrike">
              <a:solidFill>
                <a:srgbClr val="595959"/>
              </a:solidFill>
              <a:latin typeface="Calibri"/>
            </a:endParaRPr>
          </a:p>
          <a:p>
            <a:pPr marL="343080" indent="-343080" algn="just">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alidad de planta o contrata o Código del Trabajo en alguno de los organismos señalados en el artículo 1° de la Ley 20.305 o en sus antecesores legales, </a:t>
            </a:r>
            <a:r>
              <a:rPr b="1" lang="es-ES" sz="1800" spc="-1" strike="noStrike">
                <a:solidFill>
                  <a:srgbClr val="000000"/>
                </a:solidFill>
                <a:latin typeface="Verdana"/>
              </a:rPr>
              <a:t>tanto a la fecha de postulación para acceder al bono </a:t>
            </a:r>
            <a:r>
              <a:rPr b="0" lang="es-ES" sz="1800" spc="-1" strike="noStrike">
                <a:solidFill>
                  <a:srgbClr val="000000"/>
                </a:solidFill>
                <a:latin typeface="Verdana"/>
              </a:rPr>
              <a:t>como con anterioridad al 1 de mayo de 1981. </a:t>
            </a: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Tener lo menos 20 años de Servicio en calidad de planta, o a contrata o en Código del Trabajo,  las instituciones señaladas  en el artículo primero de la Ley 20.305  o en sus antecesores legales, al 5 de diciembre del 2008.</a:t>
            </a: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1" name=""/>
          <p:cNvSpPr txBox="1"/>
          <p:nvPr/>
        </p:nvSpPr>
        <p:spPr>
          <a:xfrm>
            <a:off x="826560" y="1294920"/>
            <a:ext cx="7502760" cy="4294440"/>
          </a:xfrm>
          <a:prstGeom prst="rect">
            <a:avLst/>
          </a:prstGeom>
          <a:noFill/>
          <a:ln w="0">
            <a:noFill/>
          </a:ln>
        </p:spPr>
        <p:txBody>
          <a:bodyPr anchor="t">
            <a:normAutofit fontScale="94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u="sng">
                <a:solidFill>
                  <a:srgbClr val="000000"/>
                </a:solidFill>
                <a:uFillTx/>
                <a:latin typeface="Verdana"/>
              </a:rPr>
              <a:t>Requisitos (continuación):</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Tener una tasa de reemplazo líquida estimada igual o inferior a 55%.</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umplidos 65 años de edad en el caso de los hombres y 60 años de edad tratándose de las mujeres.</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esar en funciones o terminar su  contrato de trabajo, en las instituciones señaladas en el artículo 1° de la Ley 20.305, sea por renuncia voluntaria, por obtener pensión de vejez de conformidad con el decreto Ley 3.500, de 1980, por supresión del empleo o por aplicación del inciso primero del artículo 161 del código del Trabajo. </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esar en funciones dentro de los doce meses de cumplida la edad requerida.</a:t>
            </a:r>
            <a:endParaRPr b="0" lang="en-US" sz="1800" spc="-1" strike="noStrike">
              <a:solidFill>
                <a:srgbClr val="595959"/>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
        <p:nvSpPr>
          <p:cNvPr id="1362" name="1 CuadroTexto"/>
          <p:cNvSpPr/>
          <p:nvPr/>
        </p:nvSpPr>
        <p:spPr>
          <a:xfrm>
            <a:off x="2916360" y="5791320"/>
            <a:ext cx="3527280" cy="368280"/>
          </a:xfrm>
          <a:prstGeom prst="rect">
            <a:avLst/>
          </a:prstGeom>
          <a:solidFill>
            <a:srgbClr val="4f81bd"/>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ff"/>
                </a:solidFill>
                <a:uFillTx/>
                <a:latin typeface="Calibri"/>
                <a:hlinkClick r:id="rId1"/>
              </a:rPr>
              <a:t>Circular Nº 7, de 2010, DIP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4" name=""/>
          <p:cNvSpPr txBox="1"/>
          <p:nvPr/>
        </p:nvSpPr>
        <p:spPr>
          <a:xfrm>
            <a:off x="539640" y="1477440"/>
            <a:ext cx="8136000" cy="4526280"/>
          </a:xfrm>
          <a:prstGeom prst="rect">
            <a:avLst/>
          </a:prstGeom>
          <a:noFill/>
          <a:ln w="0">
            <a:noFill/>
          </a:ln>
        </p:spPr>
        <p:txBody>
          <a:bodyPr anchor="t">
            <a:normAutofit fontScale="98000"/>
          </a:bodyPr>
          <a:p>
            <a:pPr lvl="2" marL="1119960" indent="-22392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595959"/>
              </a:solidFill>
              <a:latin typeface="Calibri"/>
            </a:endParaRPr>
          </a:p>
          <a:p>
            <a:pPr lvl="2" marL="1119960" indent="-223920" algn="ctr">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_tradnl" sz="2400" spc="-1" strike="noStrike">
                <a:solidFill>
                  <a:srgbClr val="000000"/>
                </a:solidFill>
                <a:latin typeface="Verdana"/>
              </a:rPr>
              <a:t>ARTÍCULO 1°</a:t>
            </a:r>
            <a:endParaRPr b="0" lang="en-US" sz="2400" spc="-1" strike="noStrike">
              <a:solidFill>
                <a:srgbClr val="595959"/>
              </a:solidFill>
              <a:latin typeface="Calibri"/>
            </a:endParaRPr>
          </a:p>
          <a:p>
            <a:pPr lvl="2" marL="1119960" indent="-22392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595959"/>
              </a:solidFill>
              <a:latin typeface="Calibri"/>
            </a:endParaRPr>
          </a:p>
          <a:p>
            <a:pPr lvl="2" marL="1119960" indent="-223920" algn="just">
              <a:lnSpc>
                <a:spcPct val="100000"/>
              </a:lnSpc>
              <a:spcBef>
                <a:spcPts val="499"/>
              </a:spcBef>
              <a:buClr>
                <a:srgbClr val="000000"/>
              </a:buClr>
              <a:buFont typeface="Verdana"/>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Verdana"/>
              </a:rPr>
              <a:t>Sanción administrativa para el caso en que la jefatura no efectúe o efectúe extemporáneamente las gestiones para que los funcionarios puedan acceder al beneficio. </a:t>
            </a:r>
            <a:endParaRPr b="0" lang="en-US" sz="2000" spc="-1" strike="noStrike">
              <a:solidFill>
                <a:srgbClr val="595959"/>
              </a:solidFill>
              <a:latin typeface="Calibri"/>
            </a:endParaRPr>
          </a:p>
          <a:p>
            <a:pPr lvl="2" marL="1119960" indent="-223920" algn="just">
              <a:lnSpc>
                <a:spcPct val="100000"/>
              </a:lnSpc>
              <a:spcBef>
                <a:spcPts val="3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200" spc="-1" strike="noStrike">
                <a:solidFill>
                  <a:srgbClr val="000000"/>
                </a:solidFill>
                <a:latin typeface="Verdana"/>
              </a:rPr>
              <a:t>(literal a): introduce un inciso final nuevo, al artículo 3° ley N° 20.305).</a:t>
            </a:r>
            <a:endParaRPr b="0" lang="en-US" sz="1200" spc="-1" strike="noStrike">
              <a:solidFill>
                <a:srgbClr val="595959"/>
              </a:solidFill>
              <a:latin typeface="Calibri"/>
            </a:endParaRPr>
          </a:p>
          <a:p>
            <a:pPr lvl="2" marL="1119960" indent="-223920" algn="just">
              <a:lnSpc>
                <a:spcPct val="100000"/>
              </a:lnSpc>
              <a:spcBef>
                <a:spcPts val="451"/>
              </a:spcBef>
              <a:buClr>
                <a:srgbClr val="000000"/>
              </a:buClr>
              <a:buFont typeface="Verdana"/>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595959"/>
              </a:solidFill>
              <a:latin typeface="Calibri"/>
            </a:endParaRPr>
          </a:p>
          <a:p>
            <a:pPr lvl="2" marL="1119960" indent="-223920" algn="just">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b</a:t>
            </a:r>
            <a:r>
              <a:rPr b="0" lang="es-ES" sz="2000" spc="-1" strike="noStrike">
                <a:solidFill>
                  <a:srgbClr val="000000"/>
                </a:solidFill>
                <a:latin typeface="Verdana"/>
              </a:rPr>
              <a:t>)   Modificación de la fecha del pago del bono </a:t>
            </a:r>
            <a:endParaRPr b="0" lang="en-US" sz="2000" spc="-1" strike="noStrike">
              <a:solidFill>
                <a:srgbClr val="595959"/>
              </a:solidFill>
              <a:latin typeface="Calibri"/>
            </a:endParaRPr>
          </a:p>
          <a:p>
            <a:pPr lvl="2" marL="1119960" indent="-223920" algn="just">
              <a:lnSpc>
                <a:spcPct val="100000"/>
              </a:lnSpc>
              <a:spcBef>
                <a:spcPts val="3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200" spc="-1" strike="noStrike">
                <a:solidFill>
                  <a:srgbClr val="000000"/>
                </a:solidFill>
                <a:latin typeface="Verdana"/>
              </a:rPr>
              <a:t>(literal b): modifica el inciso final nuevo, al artículo 8° ley N° 20.305).</a:t>
            </a:r>
            <a:endParaRPr b="0" lang="en-US" sz="1200" spc="-1" strike="noStrike">
              <a:solidFill>
                <a:srgbClr val="595959"/>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6" name=""/>
          <p:cNvSpPr txBox="1"/>
          <p:nvPr/>
        </p:nvSpPr>
        <p:spPr>
          <a:xfrm>
            <a:off x="151920" y="1477440"/>
            <a:ext cx="8177400" cy="4526280"/>
          </a:xfrm>
          <a:prstGeom prst="rect">
            <a:avLst/>
          </a:prstGeom>
          <a:noFill/>
          <a:ln w="0">
            <a:noFill/>
          </a:ln>
        </p:spPr>
        <p:txBody>
          <a:bodyPr anchor="t">
            <a:normAutofit fontScale="97000"/>
          </a:bodyPr>
          <a:p>
            <a:pPr lvl="2" marL="332640" indent="-33264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5°</a:t>
            </a:r>
            <a:endParaRPr b="0" lang="en-US" sz="2400" spc="-1" strike="noStrike">
              <a:solidFill>
                <a:srgbClr val="595959"/>
              </a:solidFill>
              <a:latin typeface="Calibri"/>
            </a:endParaRPr>
          </a:p>
          <a:p>
            <a:pPr marL="332640" indent="-3326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000" spc="-1" strike="noStrike">
                <a:solidFill>
                  <a:srgbClr val="000000"/>
                </a:solidFill>
                <a:latin typeface="Verdana"/>
              </a:rPr>
              <a:t>A</a:t>
            </a:r>
            <a:r>
              <a:rPr b="0" lang="es-CL" sz="2400" spc="-1" strike="noStrike">
                <a:solidFill>
                  <a:srgbClr val="000000"/>
                </a:solidFill>
                <a:latin typeface="Verdana"/>
              </a:rPr>
              <a:t>grega al final del inciso segundo del art. 13 de la ley N° 19.041, una precisión sobre la </a:t>
            </a:r>
            <a:r>
              <a:rPr b="0" lang="es-ES" sz="2400" spc="-1" strike="noStrike">
                <a:solidFill>
                  <a:srgbClr val="000000"/>
                </a:solidFill>
                <a:latin typeface="Verdana"/>
              </a:rPr>
              <a:t>competencia del Servicio de Tesorerías: faculta a dicha entidad para suspender o rechazar el pago del bono, cuando los antecedentes del caso lo ameriten.</a:t>
            </a:r>
            <a:endParaRPr b="0" lang="en-US" sz="2400" spc="-1" strike="noStrike">
              <a:solidFill>
                <a:srgbClr val="595959"/>
              </a:solidFill>
              <a:latin typeface="Calibri"/>
            </a:endParaRPr>
          </a:p>
          <a:p>
            <a:pPr marL="332640" indent="-3326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32640" indent="-33264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Verdana"/>
              </a:rPr>
              <a:t>	</a:t>
            </a:r>
            <a:r>
              <a:rPr b="0" lang="es-CL" sz="1400" spc="-1" strike="noStrike">
                <a:solidFill>
                  <a:srgbClr val="000000"/>
                </a:solidFill>
                <a:latin typeface="Verdana"/>
              </a:rPr>
              <a:t>Ley N° 19.041 que condona recargos por impuestos morosos, dicta normas sobre administración tributaria, otorga asignaciones que indica y modifica diversos cuerpos legales.</a:t>
            </a:r>
            <a:endParaRPr b="0" lang="en-US" sz="1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8" name=""/>
          <p:cNvSpPr txBox="1"/>
          <p:nvPr/>
        </p:nvSpPr>
        <p:spPr>
          <a:xfrm>
            <a:off x="1042560" y="2060640"/>
            <a:ext cx="6481800" cy="252720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FECTOS EN RETIRO VOLUNTARIO LEY Nº 20.349</a:t>
            </a:r>
            <a:endParaRPr b="0" lang="en-US" sz="24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Normativa</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jemplo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0" name=""/>
          <p:cNvSpPr txBox="1"/>
          <p:nvPr/>
        </p:nvSpPr>
        <p:spPr>
          <a:xfrm>
            <a:off x="1115640" y="1477800"/>
            <a:ext cx="6985080" cy="3967200"/>
          </a:xfrm>
          <a:prstGeom prst="rect">
            <a:avLst/>
          </a:prstGeom>
          <a:noFill/>
          <a:ln w="0">
            <a:noFill/>
          </a:ln>
        </p:spPr>
        <p:txBody>
          <a:bodyPr anchor="t">
            <a:normAutofit/>
          </a:bodyPr>
          <a:p>
            <a:pPr lvl="2"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	</a:t>
            </a:r>
            <a:endParaRPr b="0" lang="en-US" sz="2400" spc="-1" strike="noStrike">
              <a:solidFill>
                <a:srgbClr val="595959"/>
              </a:solidFill>
              <a:latin typeface="Calibri"/>
            </a:endParaRPr>
          </a:p>
          <a:p>
            <a:pPr lvl="2"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2°</a:t>
            </a:r>
            <a:endParaRPr b="0" lang="en-US" sz="2400" spc="-1" strike="noStrike">
              <a:solidFill>
                <a:srgbClr val="595959"/>
              </a:solidFill>
              <a:latin typeface="Calibri"/>
            </a:endParaRPr>
          </a:p>
          <a:p>
            <a:pPr lvl="2"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595959"/>
                </a:solidFill>
                <a:latin typeface="Calibri"/>
              </a:rPr>
              <a:t>	</a:t>
            </a:r>
            <a:endParaRPr b="0" lang="en-US" sz="2400" spc="-1" strike="noStrike">
              <a:solidFill>
                <a:srgbClr val="595959"/>
              </a:solidFill>
              <a:latin typeface="Calibri"/>
            </a:endParaRPr>
          </a:p>
          <a:p>
            <a:pPr lvl="2"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595959"/>
                </a:solidFill>
                <a:latin typeface="Calibri"/>
              </a:rPr>
              <a:t>	</a:t>
            </a:r>
            <a:r>
              <a:rPr b="0" lang="es-ES" sz="2000" spc="-1" strike="noStrike">
                <a:solidFill>
                  <a:srgbClr val="000000"/>
                </a:solidFill>
                <a:latin typeface="Verdana"/>
              </a:rPr>
              <a:t>Plazos contenidos en leyes sectoriales que establecen bonos de retiro, prevalecerán respecto de los dispuestos en la ley N° 20.305, respecto de postulación y cesación en el cargo.</a:t>
            </a:r>
            <a:endParaRPr b="0" lang="en-US" sz="2000" spc="-1" strike="noStrike">
              <a:solidFill>
                <a:srgbClr val="595959"/>
              </a:solidFill>
              <a:latin typeface="Calibri"/>
            </a:endParaRPr>
          </a:p>
          <a:p>
            <a:pPr lvl="2"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lvl="2"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Verdana"/>
              </a:rPr>
              <a:t>	</a:t>
            </a:r>
            <a:r>
              <a:rPr b="1" lang="es-CL" sz="1800" spc="-1" strike="noStrike">
                <a:solidFill>
                  <a:srgbClr val="000000"/>
                </a:solidFill>
                <a:latin typeface="Verdana"/>
              </a:rPr>
              <a:t>v.gr. Ley N° 20.649, artículos 13 y transitorio</a:t>
            </a: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3:24:15Z</dcterms:created>
  <dc:creator>Executive Director</dc:creator>
  <dc:description/>
  <dc:language>en-US</dc:language>
  <cp:lastModifiedBy>mpineda</cp:lastModifiedBy>
  <dcterms:modified xsi:type="dcterms:W3CDTF">2013-01-30T21:11:49Z</dcterms:modified>
  <cp:revision>100</cp:revision>
  <dc:subject/>
  <dc:title>Slide 1</dc:title>
</cp:coreProperties>
</file>